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0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9" descr="vcx fsd jfiez az if s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e8302"/>
                </a:solidFill>
                <a:latin typeface="Arial"/>
              </a:rPr>
              <a:t>Page </a:t>
            </a:r>
            <a:fld id="{E4DA4CBA-590C-4810-9566-DA7BBC82F399}" type="slidenum">
              <a:rPr b="1" lang="fr-FR" sz="1800" spc="-1" strike="noStrike">
                <a:solidFill>
                  <a:srgbClr val="fe830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5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4" descr="vcx fsd jfiez az if 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2050920" y="4049640"/>
            <a:ext cx="6877080" cy="13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8302"/>
                </a:solidFill>
                <a:latin typeface="Verdana"/>
              </a:rPr>
              <a:t>Rhetorical De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e8302"/>
                </a:solidFill>
                <a:latin typeface="Verdana"/>
              </a:rPr>
              <a:t>by David Ed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7"/>
          <p:cNvSpPr/>
          <p:nvPr/>
        </p:nvSpPr>
        <p:spPr>
          <a:xfrm>
            <a:off x="1640880" y="257040"/>
            <a:ext cx="449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nadiplosis (Cont’d)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268360" y="841320"/>
            <a:ext cx="59756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1.) "I am Sam, Sam I am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(Dr. Seuss, Green Eggs and H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2.)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 "When I give I give myself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(Walt Whitm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3.) "Fear is the path to the dark side. Fear leads to anger. Anger leads to hate. Hate leads to suffering. I sense much fear in you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(Frank Oz as Yoda in Star Wars Episode 1: The Phantom Men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07800" y="4508640"/>
            <a:ext cx="7124760" cy="24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7"/>
          <p:cNvSpPr/>
          <p:nvPr/>
        </p:nvSpPr>
        <p:spPr>
          <a:xfrm>
            <a:off x="1643040" y="257040"/>
            <a:ext cx="49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nalogy [uh-nal-uh-jee]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65896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: The simalairity of two things, in which a comparison could be ba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:&lt; Latin ana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7"/>
          <p:cNvSpPr/>
          <p:nvPr/>
        </p:nvSpPr>
        <p:spPr>
          <a:xfrm>
            <a:off x="1694880" y="257040"/>
            <a:ext cx="38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nalogy (Cont’d)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2124000" y="1125360"/>
            <a:ext cx="65120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e830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March: Spring :: December : W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e830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Obese: Fat :: Slender : Skin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e830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Tropical : Jamaica :: Polar :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e830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Visu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835280" y="3452760"/>
            <a:ext cx="64008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1648440" y="257040"/>
            <a:ext cx="63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lliteration [uh-lit-uh-rey-shuhn]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262728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 : The repitition of two or more consonat words in a sen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.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Medieval Latin alliterātiōn-,  stem of alliterātiō,  equivalent to al- al-+literātiō,  modeled after obliterātiō obliteration  but intended to convey a derivative of littera  let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638000" y="257040"/>
            <a:ext cx="363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lliteration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2268360" y="1052640"/>
            <a:ext cx="63360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1.) Willow whipped her hair back and fo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2.) Peter Piper picked a peck of pickled pepp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3.) Sally slapped Sarah so savagely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Visu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3635280" y="3213000"/>
            <a:ext cx="39610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7"/>
          <p:cNvSpPr/>
          <p:nvPr/>
        </p:nvSpPr>
        <p:spPr>
          <a:xfrm>
            <a:off x="1643400" y="257040"/>
            <a:ext cx="498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llusion [uh-loo-zhuhn]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265896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: An incedental mention of something or someone , either directly or by impl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: 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Late Latin allūsiōn-  (stem of allūsiō ), equivalent to allūs ( us ), past participle of allūdere  ( see allude; al- al-  + lūd-  play + -tus  past participle suffix) + -iōn- -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1635840" y="257040"/>
            <a:ext cx="33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llusion (Cont’d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268360" y="692280"/>
            <a:ext cx="63360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1.) People thought that Amy was the Beyonce of her school because of her beautiful sing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2.) Ronnie ran so fast you would’ve though he was Sonic the Hedgeh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3.)  Her long nails reminded me of Wolver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Visu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8440" y="4149720"/>
            <a:ext cx="5010120" cy="257796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-20520" y="4530600"/>
            <a:ext cx="251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felt like I was 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tal Komba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5054760" y="4000680"/>
            <a:ext cx="408924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7"/>
          <p:cNvSpPr/>
          <p:nvPr/>
        </p:nvSpPr>
        <p:spPr>
          <a:xfrm>
            <a:off x="1652040" y="257040"/>
            <a:ext cx="72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mplification [am-pluh-fi-key-shuhn]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65896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: The expansion of a statement, narrative, 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: 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&lt; Latin amplificātiōn-  (stem of amplificātiō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7"/>
          <p:cNvSpPr/>
          <p:nvPr/>
        </p:nvSpPr>
        <p:spPr>
          <a:xfrm>
            <a:off x="1499400" y="103320"/>
            <a:ext cx="47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mplification (Cont’d)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124000" y="692280"/>
            <a:ext cx="5977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1.) 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I am incredibly hungry, So hungry that my stomach is roaring at me, So hungry that I could eat a horse. I haven't eaten a thing since breakfa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2.) It’s very hot outside, so hot that I can fry eggs on the sidewalk on this hot summer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3.) "This is a crisis. A large crisis. In fact, if you've got a moment, it's a twelve-story crisis with a magnificent entrance hall, carpeting throughout, 24-hour portage, and an enormous sign on the roof, saying 'This Is a Large Crisis.' A large crisis requires a large plan. Get me two pencils and a pair of underpants."(RowanAtkinson as Captain Blackadder in"Goodbyeee." Blackadder Goes Forth, 19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700360" y="1557360"/>
            <a:ext cx="4751280" cy="3995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1499400" y="103320"/>
            <a:ext cx="47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mplification (Cont’d)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7"/>
          <p:cNvSpPr/>
          <p:nvPr/>
        </p:nvSpPr>
        <p:spPr>
          <a:xfrm>
            <a:off x="1750680" y="25704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nadiplosis  [an-uh-di-ploh-sis]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265896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: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repetition in the first part of a clause or sentence of a prominent word from the latter part of the preceding clause or sentence, usually with a change or extension of mean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: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 &lt; Latin  &lt; Greek,  equivalent to anadiplō-,  variant stem of anadiploûsthai  to be doubled back + -sis -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Michal Marcol / FreeDigitalPhotos.net </dc:description>
  <dc:language>en-US</dc:language>
  <cp:lastModifiedBy>CLAIRE DOWD</cp:lastModifiedBy>
  <cp:lastPrinted>2012-11-13T18:40:45Z</cp:lastPrinted>
  <dcterms:modified xsi:type="dcterms:W3CDTF">2012-11-15T15:37:05Z</dcterms:modified>
  <cp:revision>50</cp:revision>
  <dc:subject/>
  <dc:title>Retro Circles</dc:title>
</cp:coreProperties>
</file>