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B13A49FC-A00D-40ED-997A-2D1A22936023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5:37:05Z</dcterms:modified>
  <cp:revision>50</cp:revision>
  <dc:subject/>
  <dc:title>Retro Circles</dc:title>
</cp:coreProperties>
</file>