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A78-0FD5-4456-9DBB-2DFFB9FA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FF8-7842-4C5D-8B8A-41D8F93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2A1-4C28-4B8D-8791-D386B741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78A-CBFA-463E-843E-7B00A701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9EF-7971-4216-98F3-CD00904F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222-5486-4A60-B14C-AFC9170B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CC58-4DE6-4948-97BE-355AB340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32E5-09D0-4675-AC39-C4BDDB3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FBFC-423A-4E80-B5C3-D4777EC0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D5D9-6462-4D4D-B0E5-B8D5265B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DEB6-9F14-413F-BBAB-E78E15A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4AE-DFB6-4BD1-A5FF-1AE2C7D7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56CC-EE9F-4FF2-B122-60752C0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CDF9-AFC4-4AD3-8FA5-C647E71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323D-3608-44FA-891A-8E8C806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60E-35AC-4C87-966E-776AB7C5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1FF9-041F-4480-9CAD-A34346BB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72C-FE80-42A5-9DD3-4482775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4AC-6613-4C80-957E-0616F38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620-1D8A-4748-93B5-DE8C682B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EB5-6CAB-4ABC-A96F-D4DD4C2B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187-6ED4-4B5E-95C7-C4B9E19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367-1C38-4DB9-90D7-4748F79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3C1-52D0-48C2-B1B6-400E425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9A43-025B-44C2-9CA0-1D9491E993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93A-0258-4E0B-99BB-5476A1C43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, Modifications, and Accommodations for 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ctors to Consi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Acquisition Level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Are the assessment questions written at their level?  Are the questions at the same level as instruction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Is there cultural bias in the content of questions?  Is there cultural bias in the types of questions being asked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ducational Experienc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Has the student been exposed to the types of questions being asked?  Has the student taken standardized tests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Design Better Test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ennedy, L, and Casteel, C. (2010). Test development &amp; item writing for teachers of ELLs. NCELA webinar powerpoint slides available online at http://www.ncela.gwu.edu/files/webinars/18/Kennedy_Casteel_Mar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sessments should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nt and language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 instructional pract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students to demonstrate what they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ccessible for all stud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versal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s are created to be the most accessible for the greatest number 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- allow students to demonstrate what they know (content) without language interf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al design is used in construction, signag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rategies for Maximum Readability and Comprehen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cessive leng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low-frequency words with common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mbiguous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proper 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consistent naming and graphic con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unclear signals about how to direct at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ll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638680"/>
            <a:ext cx="80773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Sourc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Hanna, E. I. (2005). Universal design for maximum accessibility: A practical approach to universal desig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PEM Research Re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 05-04. Pearson. Available online at http://www.pearsoned.com/RESRPTS_FOR_POSTING/ASSESSMENT_RESEARCH/AR3.%20PEM%20Inclusive%20Design%20Accessibility%2005_0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egies for Legibi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lack ink on light colored pap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minimum of 12 point f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dequate spacing between words and 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asy to read fonts (no italics, caps, curs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njustified marg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equate blank space (almost 50% of the pag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ymbols, labels, graphs should be cl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ons are only used if they contain information being ass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st Accommod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roken into sections and/or test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directions and/or questions a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tem per test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cues for directions and/or questions (illustrations on t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be  or tape record student’s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echnologies (computer, translator, dictionary, spell che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in test book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for student demon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d terms, text, o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either the CMT or CAPT preparation question to evaluate its effectiv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ill a student’s language, culture, and prior educational experience impact his/her ability to complete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meet (or not meet) the criteria of Universal Desig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he assessment be impro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ccommodations would you allow stude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loring Elements of Universal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nsfield, C., Kennedy, L, and Liu, K. (2010). Using universal design in test development to benefit ELLs. NCELA webinar powerpoint slides available online at http://www.ncela.gwu.edu/files/webinars/24/Stansfield_Kennedy_Liu_Jun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3:05:22Z</dcterms:created>
  <dc:creator>Amy Rygielski</dc:creator>
  <dc:description/>
  <dc:language>en-US</dc:language>
  <cp:lastModifiedBy>RYGIELSKIA</cp:lastModifiedBy>
  <dcterms:modified xsi:type="dcterms:W3CDTF">2011-02-14T18:54:14Z</dcterms:modified>
  <cp:revision>4</cp:revision>
  <dc:subject/>
  <dc:title>Assessment Tools, Modifications, and Accommodations for ELLs</dc:title>
</cp:coreProperties>
</file>