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8AB-819F-471C-A8E5-A25808AA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67A-B5FE-4A68-A3B3-0EFC9A3E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896-2328-460A-AA10-2C68A7B2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0D9-806A-464D-8666-5F75D6F8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E73D-CC7F-4862-910B-0379EFD0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A7EF-02B8-4129-9F7C-3911B99C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AFA1-AE56-4EB2-A1BB-FD092992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751B-9A41-411D-A002-375909C8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6A55-F4DF-43C1-811E-2F28A21C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E8E5-2ACE-4911-8058-7D1624BB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B481-CC2C-4509-AE61-51115EA4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8D9-5355-4733-A488-C76C81D2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98DE-FCBA-4BA3-8936-5392F3BB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540D-9FD1-4155-B54C-472F4605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E580-977D-4BA1-AFC9-8371160D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F59A-DC0E-41A2-BFDA-14086A52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7AFD-318D-480B-9099-127AE924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106-28F1-4953-912E-60B737EA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D7F-A684-4EFB-B6F5-C773C521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0E3-2D8F-4720-A0E7-D3016167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404-8C65-44F4-8A33-3A12C0E1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032-6E33-4979-93B8-D7FFEC0C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10C-D997-4A82-95D3-45FB3F1D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3FF-091F-40E8-BC30-425B456B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DAD4-EC24-4E60-AF84-3C777DC18A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F788-A8BF-4563-811F-B701450C77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ahoma"/>
              </a:rPr>
              <a:t>Assessment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, Modifications, and Accommodations for 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ctors to Consi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 Acquisition Level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Are the assessment questions written at their level?  Are the questions at the same level as instruction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lture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Is there cultural bias in the content of questions?  Is there cultural bias in the types of questions being asked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ducational Experience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Has the student been exposed to the types of questions being asked?  Has the student taken standardized tests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to Design Better Test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ennedy, L, and Casteel, C. (2010). Test development &amp; item writing for teachers of ELLs. NCELA webinar powerpoint slides available online at http://www.ncela.gwu.edu/files/webinars/18/Kennedy_Casteel_Mar10.pdf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ssessments should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content and language object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lect instructional pract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students to demonstrate what they kn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ccessible for all stud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iversal Desig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ments are created to be the most accessible for the greatest number 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- allow students to demonstrate what they know (content) without language interf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al design is used in construction, signag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rategies for Maximum Readability and Comprehen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excessive leng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low-frequency words with common wo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ambiguous wo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proper n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inconsistent naming and graphic conven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unclear signals about how to direct atten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ll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638680"/>
            <a:ext cx="80773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Sourc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Hanna, E. I. (2005). Universal design for maximum accessibility: A practical approach to universal design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PEM Research Repo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 05-04. Pearson. Available online at http://www.pearsoned.com/RESRPTS_FOR_POSTING/ASSESSMENT_RESEARCH/AR3.%20PEM%20Inclusive%20Design%20Accessibility%2005_0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ategies for Legibi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black ink on light colored pap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 minimum of 12 point fo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dequate spacing between words and li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asy to read fonts (no italics, caps, cursi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unjustified marg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dequate blank space (almost 50% of the pag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ymbols, labels, graphs should be cl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ustrations are only used if they contain information being ass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st Accommod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roken into sections and/or test s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directions and/or questions alo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item per test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cues for directions and/or questions (illustrations on te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ibe  or tape record student’s ans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technologies (computer, translator, dictionary, spell che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in test bookl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for student demonst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ed terms, text, or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either the CMT or CAPT preparation question to evaluate its effective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ill a student’s language, culture, and prior educational experience impact his/her ability to complete the tas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es it meet (or not meet) the criteria of Universal Desig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he assessment be improv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ccommodations would you allow studen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ploring Elements of Universal Desig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ansfield, C., Kennedy, L, and Liu, K. (2010). Using universal design in test development to benefit ELLs. NCELA webinar powerpoint slides available online at http://www.ncela.gwu.edu/files/webinars/24/Stansfield_Kennedy_Liu_Jun10.pdf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23:05:22Z</dcterms:created>
  <dc:creator>Amy Rygielski</dc:creator>
  <dc:description/>
  <dc:language>en-US</dc:language>
  <cp:lastModifiedBy>RYGIELSKIA</cp:lastModifiedBy>
  <dcterms:modified xsi:type="dcterms:W3CDTF">2011-02-14T18:54:14Z</dcterms:modified>
  <cp:revision>4</cp:revision>
  <dc:subject/>
  <dc:title>Assessment Tools, Modifications, and Accommodations for ELLs</dc:title>
</cp:coreProperties>
</file>