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30DC-ACAF-4CCE-A69A-392BE9A9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5034-D4AC-4CE9-B97D-30C27A0E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276-B139-4A7A-89A0-9801D927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17F-04D0-4816-A522-194180EC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13CB-3866-458C-A89A-B6386278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F121-30BC-467B-B3C5-1756A021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16A1-2925-4C2D-B470-7B0217C4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A28E-0546-4E1E-A337-16F4F625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D71D-0B02-4C4D-9319-4A6CF0F5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82E5-9AFA-4A2F-8352-BB45B941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38A5-BD46-4308-A835-8F8EF431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69C-C521-4C4D-A5D6-754B9B17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FB22-E469-4697-8FB6-E2376DC0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63FE-93B8-4CFC-8010-FC239B9C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7CD2-59AB-42F9-A111-FD6DC97A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0D54-BA5C-4F23-9AAB-8786D16D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45ED-EA73-4AC2-A990-10CFEFD7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A7E-82EF-44C2-8775-6A69302D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3F1-809B-4AED-A5EF-2D996D18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D1A-D909-423F-B8C9-C6B54C30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E9B-6F90-4DF6-923A-A129E83A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924-D110-420C-8C32-FE07ACB0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9C4-2A20-48A7-94CA-824635E8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CFA-DE63-4D32-BAD6-33EB3CE3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5CB0-1A1F-4530-B482-31A753E2FC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B4CC-742E-4386-AE9A-62876279F1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ahoma"/>
              </a:rPr>
              <a:t>Assessment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, Modifications, and Accommodations for 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ctors to Consi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guage Acquisition Level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Are the assessment questions written at their level?  Are the questions at the same level as instruction?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lture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Is there cultural bias in the content of questions?  Is there cultural bias in the types of questions being asked?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ducational Experience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Has the student been exposed to the types of questions being asked?  Has the student taken standardized tests?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to Design Better Test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Kennedy, L, and Casteel, C. (2010). Test development &amp; item writing for teachers of ELLs. NCELA webinar powerpoint slides available online at http://www.ncela.gwu.edu/files/webinars/18/Kennedy_Casteel_Mar10.pdf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ssessments should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 content and language objecti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lect instructional pract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urage students to demonstrate what they kn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ccessible for all stud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iversal Desig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ments are created to be the most accessible for the greatest number 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pose- allow students to demonstrate what they know (content) without language interf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al design is used in construction, signag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rategies for Maximum Readability and Comprehen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excessive leng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low-frequency words with common wo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ambiguous wo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proper na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95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inconsistent naming and graphic conven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unclear signals about how to direct atten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ll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638680"/>
            <a:ext cx="80773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Sourc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Hanna, E. I. (2005). Universal design for maximum accessibility: A practical approach to universal design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PEM Research Repor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 05-04. Pearson. Available online at http://www.pearsoned.com/RESRPTS_FOR_POSTING/ASSESSMENT_RESEARCH/AR3.%20PEM%20Inclusive%20Design%20Accessibility%2005_0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ategies for Legibil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black ink on light colored pap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 minimum of 12 point fo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dequate spacing between words and li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asy to read fonts (no italics, caps, cursi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unjustified marg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adequate blank space (almost 50% of the pag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ymbols, labels, graphs should be cl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lustrations are only used if they contain information being asse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st Accommod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roken into sections and/or test se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directions and/or questions alou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item per test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cues for directions and/or questions (illustrations on te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20570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ribe  or tape record student’s answ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technologies (computer, translator, dictionary, spell che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in test bookl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for student demonst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ed terms, text, or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either the CMT or CAPT preparation question to evaluate its effectiven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will a student’s language, culture, and prior educational experience impact his/her ability to complete the tas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es it meet (or not meet) the criteria of Universal Desig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he assessment be improv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ccommodations would you allow studen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ploring Elements of Universal Desig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ansfield, C., Kennedy, L, and Liu, K. (2010). Using universal design in test development to benefit ELLs. NCELA webinar powerpoint slides available online at http://www.ncela.gwu.edu/files/webinars/24/Stansfield_Kennedy_Liu_Jun10.pdf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23:05:22Z</dcterms:created>
  <dc:creator>Amy Rygielski</dc:creator>
  <dc:description/>
  <dc:language>en-US</dc:language>
  <cp:lastModifiedBy>RYGIELSKIA</cp:lastModifiedBy>
  <dcterms:modified xsi:type="dcterms:W3CDTF">2011-02-14T18:54:14Z</dcterms:modified>
  <cp:revision>4</cp:revision>
  <dc:subject/>
  <dc:title>Assessment Tools, Modifications, and Accommodations for ELLs</dc:title>
</cp:coreProperties>
</file>