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215-6DEB-418E-B25F-73E378F2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C1F-9E5A-4AA4-B3A0-DA0F168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33E-ABC6-4F1A-A03A-6C1F1C6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A16-BDA1-47B6-861B-B9B6BDFE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7DEC-E74C-4A4C-92FA-E92925E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6F7-858C-4CC9-A532-E18D00C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BE60-145D-4EF9-AC04-D8F5B47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C49-36CE-457B-BBEA-AC67833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9CE9-5365-4756-B265-91050BA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19E8-F534-44DE-8048-A8A17B5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C28-596F-4968-97B4-C9DBF39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118-A228-4187-95A4-304860F4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F8D-9153-4D86-8CDB-053D97E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433-617C-4D2C-B7EC-9AAEB78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EBEB-4B7E-4FB3-89E9-E9B868F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87F5-ABBA-46BD-8D7A-4C992275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33EB-5CE3-4772-A5D0-25971978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034-A203-49D9-B36B-608B4160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39A-8106-490B-B8D9-E0C342D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7B9-1929-49DE-B524-9B66295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F09-3745-4B6A-9DEE-1F7E12F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E81-E231-4094-96A1-6A122AE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8D8-0262-41E5-8A32-D617F18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3B9-4762-4BA6-B420-AE9306B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949-3346-4F56-8CE8-8B48D34303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204-617D-4E59-847C-1E040D787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ahoma"/>
              </a:rPr>
              <a:t>Assessment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, Modifications, and Accommodations for 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ctors to Consi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 Acquisition Level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Are the assessment questions written at their level?  Are the questions at the same level as instruction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Is there cultural bias in the content of questions?  Is there cultural bias in the types of questions being asked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ducational Experienc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Has the student been exposed to the types of questions being asked?  Has the student taken standardized tests?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o Design Better Test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ennedy, L, and Casteel, C. (2010). Test development &amp; item writing for teachers of ELLs. NCELA webinar powerpoint slides available online at http://www.ncela.gwu.edu/files/webinars/18/Kennedy_Casteel_Mar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ssessments should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content and language objecti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 instructional pract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students to demonstrate what they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ccessible for all stud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versal Desig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ments are created to be the most accessible for the greatest number 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ose- allow students to demonstrate what they know (content) without language interf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al design is used in construction, signag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rategies for Maximum Readability and Comprehen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excessive leng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low-frequency words with common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mbiguous w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proper n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consistent naming and graphic conven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unclear signals about how to direct atten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ll ques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638680"/>
            <a:ext cx="80773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Sourc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Hanna, E. I. (2005). Universal design for maximum accessibility: A practical approach to universal desig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PEM Research Re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 05-04. Pearson. Available online at http://www.pearsoned.com/RESRPTS_FOR_POSTING/ASSESSMENT_RESEARCH/AR3.%20PEM%20Inclusive%20Design%20Accessibility%2005_0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egies for Legibi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lack ink on light colored pap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 minimum of 12 point f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dequate spacing between words and 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asy to read fonts (no italics, caps, curs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unjustified marg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equate blank space (almost 50% of the pag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ymbols, labels, graphs should be cl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ons are only used if they contain information being ass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st Accommod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roken into sections and/or test s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directions and/or questions a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tem per test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cues for directions and/or questions (illustrations on t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ribe  or tape record student’s ans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echnologies (computer, translator, dictionary, spell che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in test bookl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for student demonst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ed terms, text, or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either the CMT or CAPT preparation question to evaluate its effectiv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ill a student’s language, culture, and prior educational experience impact his/her ability to complete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it meet (or not meet) the criteria of Universal Desig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he assessment be improv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ccommodations would you allow stude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loring Elements of Universal Desig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ansfield, C., Kennedy, L, and Liu, K. (2010). Using universal design in test development to benefit ELLs. NCELA webinar powerpoint slides available online at http://www.ncela.gwu.edu/files/webinars/24/Stansfield_Kennedy_Liu_Jun10.pdf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3:05:22Z</dcterms:created>
  <dc:creator>Amy Rygielski</dc:creator>
  <dc:description/>
  <dc:language>en-US</dc:language>
  <cp:lastModifiedBy>RYGIELSKIA</cp:lastModifiedBy>
  <dcterms:modified xsi:type="dcterms:W3CDTF">2011-02-14T18:54:14Z</dcterms:modified>
  <cp:revision>4</cp:revision>
  <dc:subject/>
  <dc:title>Assessment Tools, Modifications, and Accommodations for ELLs</dc:title>
</cp:coreProperties>
</file>