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9C85AE58-B12F-4DB3-ACBA-5037C21FD145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2:53:43Z</dcterms:modified>
  <cp:revision>50</cp:revision>
  <dc:subject/>
  <dc:title>Retro Circles</dc:title>
</cp:coreProperties>
</file>