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D092A52D-6457-47E9-9E6C-D1155DD45D19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2:53:43Z</dcterms:modified>
  <cp:revision>50</cp:revision>
  <dc:subject/>
  <dc:title>Retro Circles</dc:title>
</cp:coreProperties>
</file>