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6FA5849C-E12D-471A-8C1F-55A1978F8E7D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5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4" descr="vcx fsd jfiez az if 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2050920" y="4049640"/>
            <a:ext cx="687708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Rhetorical De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e8302"/>
                </a:solidFill>
                <a:latin typeface="Verdana"/>
              </a:rPr>
              <a:t>by David Ed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1640880" y="257040"/>
            <a:ext cx="44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diplosis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268360" y="841320"/>
            <a:ext cx="59756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"I am Sam, Sam I am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(Dr. Seuss, Green Eggs and H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 "When I give I give myself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(Walt Whitm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3.) "Fear is the path to the dark side. Fear leads to anger. Anger leads to hate. Hate leads to suffering. I sense much fear in you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(Frank Oz as Yoda in Star Wars Episode 1: The Phantom Men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7800" y="4508640"/>
            <a:ext cx="712476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7"/>
          <p:cNvSpPr/>
          <p:nvPr/>
        </p:nvSpPr>
        <p:spPr>
          <a:xfrm>
            <a:off x="1643040" y="257040"/>
            <a:ext cx="49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logy [uh-nal-uh-jee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The simalairity of two things, in which a comparison could be b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&lt; Latin ana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1694880" y="25704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logy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124000" y="1125360"/>
            <a:ext cx="65120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March: Spring :: December : W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Obese: Fat :: Slender : Skin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Tropical : Jamaica :: Polar :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835280" y="3452760"/>
            <a:ext cx="6400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1648440" y="257040"/>
            <a:ext cx="63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iteration [uh-lit-uh-rey-shuhn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62728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 : The repitition of two or more consonat words in a sen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.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Medieval Latin alliterātiōn-,  stem of alliterātiō,  equivalent to al- al-+literātiō,  modeled after obliterātiō obliteration  but intended to convey a derivative of littera  le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638000" y="257040"/>
            <a:ext cx="36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iteration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268360" y="1052640"/>
            <a:ext cx="633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Willow whipped her hair back and fo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 Peter Piper picked a peck of pickled pep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3.) Sally slapped Sarah so savagely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635280" y="3213000"/>
            <a:ext cx="39610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1643400" y="257040"/>
            <a:ext cx="49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usion [uh-loo-zhuhn]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An incedental mention of something or someone , either directly or by im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Late Latin allūsiōn-  (stem of allūsiō ), equivalent to allūs ( us ), past participle of allūdere  ( see allude; al- al-  + lūd-  play + -tus  past participle suffix) + -iōn- -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635840" y="257040"/>
            <a:ext cx="33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usion (Cont’d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68360" y="692280"/>
            <a:ext cx="633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People thought that Amy was the Beyonce of her school because of her beautiful sin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 Ronnie ran so fast you would’ve though he was Sonic the Hedgeh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3.)  Her long nails reminded me of Wolver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8440" y="4149720"/>
            <a:ext cx="5010120" cy="2577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-20520" y="4530600"/>
            <a:ext cx="25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felt like I was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tal Komba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5054760" y="4000680"/>
            <a:ext cx="40892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1652040" y="257040"/>
            <a:ext cx="72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[am-pluh-fi-key-shuhn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The expansion of a statement, narrative, 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&lt; Latin amplificātiōn-  (stem of amplificātiō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1499400" y="10332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124000" y="692280"/>
            <a:ext cx="5977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I am incredibly hungry, So hungry that my stomach is roaring at me, So hungry that I could eat a horse. I haven't eaten a thing since breakfa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2.) It’s very hot outside, so hot that I can fry eggs on the sidewalk on this hot summ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3.) "This is a crisis. A large crisis. In fact, if you've got a moment, it's a twelve-story crisis with a magnificent entrance hall, carpeting throughout, 24-hour portage, and an enormous sign on the roof, saying 'This Is a Large Crisis.' A large crisis requires a large plan. Get me two pencils and a pair of underpants."(RowanAtkinson as Captain Blackadder in"Goodbyeee." Blackadder Goes Forth, 19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4751280" cy="3995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1499400" y="10332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7"/>
          <p:cNvSpPr/>
          <p:nvPr/>
        </p:nvSpPr>
        <p:spPr>
          <a:xfrm>
            <a:off x="1750680" y="2570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diplosis  [an-uh-di-ploh-sis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repetition in the first part of a clause or sentence of a prominent word from the latter part of the preceding clause or sentence, usually with a change or extension of mea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 &lt; Latin  &lt; Greek,  equivalent to anadiplō-,  variant stem of anadiploûsthai  to be doubled back + -sis -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 </dc:description>
  <dc:language>en-US</dc:language>
  <cp:lastModifiedBy>CLAIRE DOWD</cp:lastModifiedBy>
  <cp:lastPrinted>2012-11-13T18:40:45Z</cp:lastPrinted>
  <dcterms:modified xsi:type="dcterms:W3CDTF">2012-11-15T12:53:43Z</dcterms:modified>
  <cp:revision>50</cp:revision>
  <dc:subject/>
  <dc:title>Retro Circles</dc:title>
</cp:coreProperties>
</file>