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8063-D420-4646-9C0C-5194B8C5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4C9-B72B-46DF-AF2C-F1139A1D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CE6-5325-4DE6-8423-4DE3E456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CA2F-642D-408C-A172-FA8E4F1C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D22A-2A39-41A1-B9A7-6F6C89B2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45BB-6D5C-48D9-998D-861503A3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8C95-647E-44CE-939B-751AB8DA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9257-4E11-4C13-A29B-AA3CE536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7E9E-2FA5-4842-84CF-8DA7A46F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6FE5-7633-4ABE-969C-C770AF09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8090-B015-44AD-9DAC-F77BD1CE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B5F-980D-4219-B7F4-0E3959B5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8EBE-58B8-4929-AE8B-59F4A9E2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7DF2-D66A-4AD9-BCF4-30D6E489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07CD-AF90-4DDB-8055-2135638F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4298-9181-4320-B108-996452A1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177D-4024-4BC4-9CA2-CCF9EFAF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576-DB52-43C8-9059-4E0C5F8A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11C-BD15-4C1D-BE57-AA50FE1F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FDD-6439-43C3-9620-B0317451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0F2-2A87-4F8D-8786-B25326A7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4CE-FDF5-4286-A2FE-32E6D279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8EC-8C83-4213-BE29-3647281C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DD9-8B24-49A1-9424-A67CB06E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7033-87CE-49C1-ABB6-17B3E6D0AA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F397-5F8F-411A-945C-6C7BD8F0987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Graduation Speech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x Pacif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4920" y="297180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ictures taken from Google 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rack Ob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073680" cy="4191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733920" y="2362320"/>
            <a:ext cx="48765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president on November 4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me into office January 20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American just like all of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P Oil Spi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733920" cy="2317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057400"/>
            <a:ext cx="40384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d on April 24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king about 1,000 barrels p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4572000"/>
            <a:ext cx="41907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hreatened tons of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aising gas prices, harm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ebo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800600" cy="3809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181480" y="1676520"/>
            <a:ext cx="373392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d by Mark Zuckerberg on Feb. 4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alled “The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“Facebook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s a huge part in our liv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wit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876920" cy="3692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57200" y="2133720"/>
            <a:ext cx="30481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Created in 2006 for b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popular in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by us to post frequent stat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era Bradl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086280" cy="3429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114800" y="2590920"/>
            <a:ext cx="4495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girls own at least one item from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en in Business over 20 y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G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647960" cy="3683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33520" y="2819520"/>
            <a:ext cx="3200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ts, Moccasins, Slippers, Appar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nge from $60-$500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d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206880" cy="4838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419720" y="2666880"/>
            <a:ext cx="4114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inated in 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ed by tossing the ball &amp; attempting to catch it on one of the c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L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438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9:47:26Z</dcterms:created>
  <dc:creator>Owner</dc:creator>
  <dc:description/>
  <dc:language>en-US</dc:language>
  <cp:lastModifiedBy>Owner</cp:lastModifiedBy>
  <dcterms:modified xsi:type="dcterms:W3CDTF">2012-06-07T20:37:27Z</dcterms:modified>
  <cp:revision>10</cp:revision>
  <dc:subject/>
  <dc:title>Graduation Speech</dc:title>
</cp:coreProperties>
</file>