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F80-0CA8-45CD-8DA9-EDDFFF8E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36F-99D3-4804-A6D5-2D95FBD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0F8-7EAC-44EB-B4DC-C0BBB48E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E10-3B61-4DB8-8039-098ECAAE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40E-E855-4531-AA19-3A51F266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E4F-30FE-43C5-99ED-17039D3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379-B7E7-4E6C-926B-17281B6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51BA-8006-430B-880F-D623FE7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C2D3-5423-4F20-9481-A46BAA80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1F5E-56DB-48DE-9BF5-1A284386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269D-6108-407E-9141-10E6782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B36-164E-4E41-9E27-3489DF7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EB4A-62D6-43D7-8E79-13DDD6B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C218-BB46-4E9E-AF6D-E1415FE6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B6D-5CB3-4840-AB6D-5EBD1FCC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3106-81BE-44B0-87A5-9CD94D59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88A4-85A9-4550-84F3-8DB623BA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C62-CFEE-4253-B9F0-B3ECC685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C63-3B86-44BF-88D0-82A1A9AB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A8F-84AD-4383-8887-CB82629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BD7-1E79-40B4-9DE0-7017157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E61-272A-4047-9401-1FCA7FA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0DF-2C75-40AA-981D-3FF0ABC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037-7A99-4AF8-BE00-589C673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9C2-8535-4BAE-A35C-262D729403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4433-54B3-4332-B241-AA74242E32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 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7:27Z</dcterms:modified>
  <cp:revision>10</cp:revision>
  <dc:subject/>
  <dc:title>Graduation Speech</dc:title>
</cp:coreProperties>
</file>