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BA99-D130-4285-81D4-E867C53E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C1A7-3216-4683-92F6-4E0CA467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886C-0AB8-4228-9958-D24D4EDC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ADA-4BC6-4C80-BDE1-E942B25A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4E75-AFFA-46A8-A6EF-0C04E6FF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CCDD-9E4C-49CB-BE84-BD0A83D6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BB25-59B9-4A90-B8C5-80315470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BB92-A806-46AA-8593-01A64979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2F8D-4819-4710-9B3C-E4751867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CD33-093E-4868-8C3A-0558CA65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E742-9175-492E-94B0-5826066C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C402-56F4-4655-854B-53A69EE6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521A-0FC3-41DA-A9B8-98F519D8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0C17-0284-4046-88DD-9D90439F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DDD7-B856-4385-9A74-2420B567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847F-0CFE-4394-A60C-06201C2D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0AEF-B0BC-4493-863C-A2DF3007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C087-F392-4C5D-A895-6287E7D5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822-B5CD-4F02-BA49-53DA04FF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F94-E882-4C66-98A1-2E2FB8F5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185-8ACD-49F2-A903-983605F1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C3C5-CA99-44D1-BCA1-65E30DB3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44E-50D0-4D7D-8A6A-042E10A7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9AB-0C03-437D-A72A-BA6B49A3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6A64-82A2-42B9-ACB1-FC1EC3E6D3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F792-91BE-4193-BA1A-E338290B94D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Graduation Speech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ex Pacif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04920" y="297180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Pictures taken from Google Im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rack Obam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3073680" cy="41911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733920" y="2362320"/>
            <a:ext cx="48765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president on November 4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me into office January 20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American just like all of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P Oil Spi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3733920" cy="23176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57200" y="2057400"/>
            <a:ext cx="40384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d on April 24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king about 1,000 barrels per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4572000"/>
            <a:ext cx="41907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Threatened tons of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Raising gas prices, harmed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aceboo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800600" cy="3809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181480" y="1676520"/>
            <a:ext cx="373392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d by Mark Zuckerberg on Feb. 4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alled “The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“Facebook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s a huge part in our liv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wit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876920" cy="36925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457200" y="2133720"/>
            <a:ext cx="30481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Created in 2006 for b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popular in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by us to post frequent stat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era Bradle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086280" cy="3429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114800" y="2590920"/>
            <a:ext cx="4495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girls own at least one item from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en in Business over 20 y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G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647960" cy="36831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33520" y="2819520"/>
            <a:ext cx="32004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ts, Moccasins, Slippers, Appar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nge from $60-$500 or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ndam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3206880" cy="4838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4419720" y="2666880"/>
            <a:ext cx="4114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ginated in Ja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ed by tossing the ball &amp; attempting to catch it on one of the cu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L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6438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9:47:26Z</dcterms:created>
  <dc:creator>Owner</dc:creator>
  <dc:description/>
  <dc:language>en-US</dc:language>
  <cp:lastModifiedBy>Owner</cp:lastModifiedBy>
  <dcterms:modified xsi:type="dcterms:W3CDTF">2012-06-07T20:37:27Z</dcterms:modified>
  <cp:revision>10</cp:revision>
  <dc:subject/>
  <dc:title>Graduation Speech</dc:title>
</cp:coreProperties>
</file>