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5CD-5F7D-4E62-AE2F-BE98FB38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628-9CFF-4589-BF15-9F10C786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A5E-CEE2-4F8A-8721-BD73EFE0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FC9-4110-491F-92CE-B22AD728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8C57-094A-4CB4-AB58-4C8BF4A7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95D-087C-40F7-9229-3CC88FC3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2B5-177C-4B67-9DE1-0717E09F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4E84-776B-49B6-88D0-41250910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9E6D-9EA6-40BF-ACEA-DB3CD9F8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8075-6840-4185-8094-5C27D1D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485C-4444-4D44-90C6-1040E921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1C1-4180-46F3-9B0B-9AAC85F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8148-B550-4B06-BB27-2A92896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CBB0-98C0-40A7-87DD-B1BBEE3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35A-8E6E-4765-9146-AEACCE10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E017-6A9B-4777-AA06-EA3A91AA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9E02-D76B-4A7C-8C17-F40D99F1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2BB-51D6-425D-8D75-7EEDF50B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F79-8DC3-4BDC-951C-C1F47114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BD2-D500-46B2-BF77-F698B2D9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E6A-B6A2-45A1-8FFC-114915F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2B8-C0D7-48A8-8E26-8C0E2EF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CAD-2412-45A6-A202-8F961AE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3D4-059C-4350-B0A6-B4F90BFC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DFC1-A4B8-423A-8952-2D40F9DF38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2C0-781E-465F-BB44-2A5604018E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 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7:27Z</dcterms:modified>
  <cp:revision>10</cp:revision>
  <dc:subject/>
  <dc:title>Graduation Speech</dc:title>
</cp:coreProperties>
</file>