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BC8-D8B8-479E-8762-87C79D3D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981-80FF-4FC9-8907-5A05238D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49F-A8D6-4D6A-AC97-5D5EF872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25B-9BC5-423E-93B2-4D519FCD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3837-BB2F-4232-950B-21471B8B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C1C0-0CDD-46DE-9642-7C942338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F4DA-BC4F-47D4-A189-CEDA35A7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58E8-B1C2-4E26-8737-C14C1473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54F5-FEBF-4423-8111-571A565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BB25-42C9-4622-A381-8B53FEC5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D3E6-33C5-4E1E-A6F6-54055722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296-6B78-435C-A15E-1F2DA4E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6F21-2306-4071-8D7C-1FEE1B57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4473-3191-4EB3-86F6-479716DA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6146-31D2-4A9D-BB72-3A64B826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C13F-4D92-411E-BD62-02F07477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9D75-71D4-4C7D-BA9B-7E1B6745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F8A-0CF6-4188-AD80-6DE5C71A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766-8A44-431A-8DAF-C52E2614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1DE-E687-4A87-A30F-54B061B6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444-B49D-47BD-9863-53E113E1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514-D810-40B9-A0D6-1080F0CA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E08-40B9-4276-8021-1D557E37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9C5-2727-4661-8572-B016D6F2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A06-DF5D-49E2-BA70-728A47472E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FBDA-E391-42DC-92A2-13A2AA97FF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raduation Spee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 Paci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taken from Google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rack O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073680" cy="4191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733920" y="2362320"/>
            <a:ext cx="4876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resident on Nov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e into office January 20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American just like all of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P Oil Sp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33920" cy="2317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057400"/>
            <a:ext cx="40384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d on April 24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king about 1,000 barrels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572000"/>
            <a:ext cx="4190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reatened tons of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ising gas prices, harm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81480" y="1676520"/>
            <a:ext cx="37339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Mark Zuckerberg on Feb. 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alled “The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“Facebook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a huge part in our liv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76920" cy="3692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" y="2133720"/>
            <a:ext cx="3048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reated in 2006 for b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opular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us to post frequent stat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ra Bradl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08628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259092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girls own atleast one item from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in Business over 20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G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68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281952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, Moccasins, Slippers, Appar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 from $60-$500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d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20688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419720" y="2666880"/>
            <a:ext cx="4114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ted i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by tossing the ball &amp; attempting to catch it on one of the c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3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9:47:26Z</dcterms:created>
  <dc:creator>Owner</dc:creator>
  <dc:description/>
  <dc:language>en-US</dc:language>
  <cp:lastModifiedBy>Owner</cp:lastModifiedBy>
  <dcterms:modified xsi:type="dcterms:W3CDTF">2012-06-07T20:34:31Z</dcterms:modified>
  <cp:revision>9</cp:revision>
  <dc:subject/>
  <dc:title>Graduation Speech</dc:title>
</cp:coreProperties>
</file>