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EDC5-84CC-48D2-A45D-F2B9D6D31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FCA1-9B65-495A-A4C1-DB48C2485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844F-D43A-49F9-9836-776B69368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4F6C-CEAD-4EA7-9265-52A987A1F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3F093-6A68-42C4-A149-2B1999E54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126FA-7F02-418F-9974-979483CF5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3575B-3475-488B-8366-3F093BD6B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B66EF-224A-4901-B2CC-3822B18BB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D7BF8-4169-4A03-9E09-996743912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8AD54-0164-4F18-8B32-E19769B05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FCFBB-A2B7-4DDD-950F-B7AFE0C2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C280-1B45-4D7E-B9B2-5CDF0721B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BE469-6CD6-4727-A4CE-00ECE6CC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4A885-F48A-4E88-A66F-BFEF6E47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F5A22-C33B-4465-BD3C-83CE6B144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956EA-8A8C-4BA3-8A79-74F0A7F5E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BBABE-ADD2-4D1F-BDB1-F2F623C53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68DE-8D12-4453-9BC3-4D07EF0D0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55F6-D66C-4F0B-829F-AFD44DDE3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33B6-98B4-4BCC-8C41-49FD8BA05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315A-BC49-4951-A4FE-263CF162E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1442-1F14-4805-8086-D7D6E085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6D19-C072-4FE8-968D-317EA1B0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DD8C-CC7A-4962-9FA6-34F24D89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7C38E-1F0A-425A-BFC6-1B21D9A7E4C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B0DF0-9E9B-435F-9F04-3E016E62BBB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Graduation Speech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ex Pacif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304920" y="2971800"/>
            <a:ext cx="8540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Pictures taken from Google Ima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arack Obam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3073680" cy="419112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3733920" y="2362320"/>
            <a:ext cx="487656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came president on November 4, 200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me into office January 20, 20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ypical American just like all of 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P Oil Spil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4876920" y="1219320"/>
            <a:ext cx="3809880" cy="259056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457200" y="4343400"/>
            <a:ext cx="3733920" cy="231768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457200" y="2057400"/>
            <a:ext cx="403848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iced on April 24,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aking about 1,000 barrels per 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48320" y="4572000"/>
            <a:ext cx="41907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Threatened tons of l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Raising gas prices, harmed enviro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acebook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4800600" cy="380988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5181480" y="1676520"/>
            <a:ext cx="3733920" cy="45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eated by Mark Zuckerberg on Feb. 4, 200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rst called “The Facebook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came “Facebook in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ys a huge part in our live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witt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4038480" y="1981080"/>
            <a:ext cx="4876920" cy="36925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457200" y="2133720"/>
            <a:ext cx="304812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Created in 2006 for blogg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came popular in 20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d by us to post frequent stat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era Bradle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3086280" cy="342900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4114800" y="2590920"/>
            <a:ext cx="44956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girls own atleast one item from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en in Business over 20 yr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UG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4191120" y="1981080"/>
            <a:ext cx="4647960" cy="368316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533520" y="2819520"/>
            <a:ext cx="32004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ots, Moccasins, Slippers, Appar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nge from $60-$500 or m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Kendam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3206880" cy="48387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4419720" y="2666880"/>
            <a:ext cx="41148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iginated in Jap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yed by tossing the ball &amp; attempting to catch it on one of the cup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YOL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1295280" y="2514600"/>
            <a:ext cx="64389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7T19:47:26Z</dcterms:created>
  <dc:creator>Owner</dc:creator>
  <dc:description/>
  <dc:language>en-US</dc:language>
  <cp:lastModifiedBy>Owner</cp:lastModifiedBy>
  <dcterms:modified xsi:type="dcterms:W3CDTF">2012-06-07T20:34:31Z</dcterms:modified>
  <cp:revision>9</cp:revision>
  <dc:subject/>
  <dc:title>Graduation Speech</dc:title>
</cp:coreProperties>
</file>