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C1A-882A-447B-BCBD-4FE7FACB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388-B012-463A-A421-BA8C0842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8D21-2123-4767-8A1B-BE188C60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971-B9C5-4454-BA57-82233427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779D-C659-41F8-A7BE-DF54FB50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02E9-995E-460A-9D2A-49A31E23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95EA-52A6-4432-948C-BA95D139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81E6-8D86-434B-A8B5-99164ABF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624F-1329-42EC-B07F-5E906B25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9EC3-3D62-4074-BC47-17D7CD9E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796C-EC82-4CFA-9B86-C60EB72F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4A2A-262D-4E9E-A981-55D4E384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3BFE-B428-438D-B2CD-9521298C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0D63-9794-453D-B6DF-E9AACA3D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0410-37ED-44FF-A1C8-FDAE760F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0A35-1F09-41D9-8A24-1D9CDA56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FCB4-D8A9-4A25-AC34-7CA1A4C8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C28-9C9C-4286-8EA5-FF448EE6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9D4-A6B6-41C6-AD98-C15D2ECD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9E53-954B-4607-B351-A7F5EF3B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4372-22F3-4025-8040-9C468F79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828-4F98-4503-926D-992887F9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496-C9D5-4783-B60F-7E76B4B4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D5D-FFF2-4062-A683-1F873F2F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BE09-9303-4DC3-954D-EB953A5F9E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992F-147D-40C8-934F-E2622243639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Graduation Speech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ex Pacif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04920" y="2971800"/>
            <a:ext cx="8540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Pictures taken from Google Im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rack Obam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3073680" cy="41911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733920" y="2362320"/>
            <a:ext cx="48765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president on November 4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me into office January 20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 American just like all of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P Oil Spi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3733920" cy="23176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57200" y="2057400"/>
            <a:ext cx="40384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d on April 24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king about 1,000 barrels per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4572000"/>
            <a:ext cx="41907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Threatened tons of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Raising gas prices, harmed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aceboo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800600" cy="38098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181480" y="1676520"/>
            <a:ext cx="373392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d by Mark Zuckerberg on Feb. 4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called “The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“Facebook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s a huge part in our liv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wit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876920" cy="36925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457200" y="2133720"/>
            <a:ext cx="30481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Created in 2006 for blo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popular in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by us to post frequent stat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era Bradle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086280" cy="3429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114800" y="2590920"/>
            <a:ext cx="4495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girls own atleast one item from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en in Business over 20 y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G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647960" cy="36831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33520" y="2819520"/>
            <a:ext cx="32004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ts, Moccasins, Slippers, Appar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nge from $60-$500 or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ndam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3206880" cy="4838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4419720" y="2666880"/>
            <a:ext cx="4114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ginated in Ja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ed by tossing the ball &amp; attempting to catch it on one of the cu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L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6438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9:47:26Z</dcterms:created>
  <dc:creator>Owner</dc:creator>
  <dc:description/>
  <dc:language>en-US</dc:language>
  <cp:lastModifiedBy>Owner</cp:lastModifiedBy>
  <dcterms:modified xsi:type="dcterms:W3CDTF">2012-06-07T20:34:31Z</dcterms:modified>
  <cp:revision>9</cp:revision>
  <dc:subject/>
  <dc:title>Graduation Speech</dc:title>
</cp:coreProperties>
</file>