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5F5-7949-4F00-86BE-EAE237F2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FEB-457D-49EB-9089-28DD63F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DE7-3DAF-40FA-ADFD-DB532D29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5AC-BAB2-42ED-930E-8FB2CCBF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4744-2B30-4701-94DD-B54FDFB3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F9B-AE93-4496-8075-D68A65D4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7E4-4C0E-4646-AF34-CD87FA3F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2664-2F25-43C0-A596-EAE37BE6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714-A6A8-485C-A4E0-AC3B56E0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D37E-7423-4A4E-9796-31562DA4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BC42-2BF2-4E45-892C-DFC41B7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31C-D0FA-4787-AB57-8671FDB5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EF0D-2356-4036-8E75-ABF9FCF2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AB3F-BF64-40A3-9118-237BE27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C290-3655-4BDF-91E8-39BC6578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B8AB-A636-491E-8D42-D166552B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E439-D454-4323-BBE0-15D7160B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C67-1B04-42B8-87E9-62D79C46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CF2-62A5-4C44-B401-C1A4F7FA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ECF-9CF2-4472-AD28-A9B5B7E5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791-41A3-434D-89F5-704DC077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7D1-CEAD-4A21-AAB9-0FC96CA2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0F1-2C7D-4219-92F0-FA6D33E5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064-453D-4408-83E6-66A409E7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10D4-1ADC-426C-AA4C-075A5B6C30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4BEF-13D0-4C2C-9B46-AFE2F8E773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aduation Spee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 Paci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taken from Google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rack O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073680" cy="4191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33920" y="2362320"/>
            <a:ext cx="4876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resident on Nov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e into office January 20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American just like all of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P Oil Sp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33920" cy="2317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057400"/>
            <a:ext cx="4038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d on April 24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king about 1,000 barrels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572000"/>
            <a:ext cx="4190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reatened tons of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gas prices, harm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81480" y="1676520"/>
            <a:ext cx="37339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Mark Zuckerberg on Feb. 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alled “The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“Facebook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 huge part in our liv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76920" cy="3692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2133720"/>
            <a:ext cx="3048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reated in 2006 for b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opular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us to post frequent stat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ra Bradl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628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259092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girls own atleast one item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in Business over 20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G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68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28195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, Moccasins, Slippers, Appar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 from $60-$500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d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20688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9720" y="2666880"/>
            <a:ext cx="4114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d i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by tossing the ball &amp; attempting to catch it on one of the c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3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47:26Z</dcterms:created>
  <dc:creator>Owner</dc:creator>
  <dc:description/>
  <dc:language>en-US</dc:language>
  <cp:lastModifiedBy>Owner</cp:lastModifiedBy>
  <dcterms:modified xsi:type="dcterms:W3CDTF">2012-06-07T20:34:31Z</dcterms:modified>
  <cp:revision>9</cp:revision>
  <dc:subject/>
  <dc:title>Graduation Speech</dc:title>
</cp:coreProperties>
</file>