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DEE65-0A98-41C6-B1D7-C8EAA9CAE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674A9-4162-4553-8124-5124CB833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3F133-1105-4709-82C9-1555F50D9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76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08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76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08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51A22-82CF-44CC-B9BC-848C0CED6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FF362-5AA6-424D-9DBE-A98F84D89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E17AC-D492-4A35-85C3-C502ADB58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4605E-994E-4AA6-8B9B-C25348736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11FDC-83AF-4DDC-8618-3CDF7A5DC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1544760"/>
            <a:ext cx="731520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9800A-FB85-4918-B240-945B748B5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DDE2D-0A43-45AC-B369-32D6410B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4CF2A-C74D-498E-8316-50A37825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E6F40-B340-4AEF-B8D4-837A955A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8435880" y="573120"/>
            <a:ext cx="8568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8569440" y="573120"/>
            <a:ext cx="57600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9144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06600" y="549360"/>
            <a:ext cx="1189080" cy="2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6C69D-9D0A-46AE-BCEF-5052CD6836BF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314840" y="549360"/>
            <a:ext cx="939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3F1D0-E77E-498B-94E5-6E3C3A005E2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6008760" y="855720"/>
            <a:ext cx="22464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157320"/>
            <a:ext cx="7315200" cy="306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8600"/>
                </a:solidFill>
                <a:latin typeface="Arial"/>
              </a:rPr>
              <a:t>          </a:t>
            </a:r>
            <a:r>
              <a:rPr b="0" lang="en-US" sz="4800" spc="-1" strike="noStrike">
                <a:solidFill>
                  <a:srgbClr val="ff8600"/>
                </a:solidFill>
                <a:latin typeface="Arial"/>
              </a:rPr>
              <a:t>I-Search</a:t>
            </a:r>
            <a:endParaRPr b="0" lang="en-US" sz="48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14400" y="5167080"/>
            <a:ext cx="731520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tt Pet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Colleges: UConn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ose to Ho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od nursing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expensive for a colle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sibility of Avery 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7,000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College: Steubenville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Oh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ly 2,000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od nursing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stria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irly expens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Emergency Room Nurse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essful job involving long hours and sometimes difficult pati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nual Salary between $60,000 and $100,000 in the begi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 job de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heduled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Finances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14400" y="2770200"/>
            <a:ext cx="7315200" cy="75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eubenville is $28,320 per ye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Conn is $21,720 per ye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ROTC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ys for tuition and fe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thly paychec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quires two years for every one year the military pays f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Finances 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pic>
        <p:nvPicPr>
          <p:cNvPr id="56" name="Content Placeholder 3" descr=""/>
          <p:cNvPicPr/>
          <p:nvPr/>
        </p:nvPicPr>
        <p:blipFill>
          <a:blip r:embed="rId1"/>
          <a:stretch/>
        </p:blipFill>
        <p:spPr>
          <a:xfrm>
            <a:off x="863640" y="2719440"/>
            <a:ext cx="7416720" cy="36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1T23:00:38Z</dcterms:created>
  <dc:creator>Thomas Peter</dc:creator>
  <dc:description/>
  <dc:language>en-US</dc:language>
  <cp:lastModifiedBy>Thomas Peter</cp:lastModifiedBy>
  <dcterms:modified xsi:type="dcterms:W3CDTF">2012-04-02T23:08:34Z</dcterms:modified>
  <cp:revision>3</cp:revision>
  <dc:subject/>
  <dc:title>          I-Search</dc:title>
</cp:coreProperties>
</file>