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1BBCD-ACC5-44A7-878E-2102C3BA8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6809A-0414-4019-9722-5BA8E01E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FDF34-BB44-479C-8113-259DBE151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4695B-CFD6-4EBA-82C7-57B204A18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318F8-333E-4939-B34B-0B759450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4379D-BB8C-4C60-9940-D58B88C0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3904F-EEBD-46FC-93B1-5B17A367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ADBBE-A03F-4179-BA17-DE75E1F6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F44AF-3905-4FF0-B4F6-1D5DDE66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369A3-3265-41C4-AD18-D9527195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F0598-677D-414E-AF84-0E2E8E93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5F8F2-2FA6-4BEF-9E86-DE7B41AD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B81C-842B-49B7-B251-8E087E1989EA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CC59-E7FB-4268-B634-11646A1637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57320"/>
            <a:ext cx="7315200" cy="306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8600"/>
                </a:solidFill>
                <a:latin typeface="Arial"/>
              </a:rPr>
              <a:t>          </a:t>
            </a:r>
            <a:r>
              <a:rPr b="0" lang="en-US" sz="4800" spc="-1" strike="noStrike">
                <a:solidFill>
                  <a:srgbClr val="ff8600"/>
                </a:solidFill>
                <a:latin typeface="Arial"/>
              </a:rPr>
              <a:t>I-Search</a:t>
            </a:r>
            <a:endParaRPr b="0" lang="en-US" sz="48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400" y="516708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tt Pe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olleges: UConn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ose to H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nursing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expensive for a colle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sibility of Avery 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7,000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ollege: Steubenville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h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2,000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nursing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stria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irly expen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Emergency Room Nurse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essful job involving long hours and sometimes difficult pati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nual Salary between $60,000 and $100,000 in the begi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job de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eduled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Finance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14400" y="2770200"/>
            <a:ext cx="731520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eubenville is $28,320 per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Conn is $21,720 per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ROTC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ys for tuition and fe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thly paychec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ires two years for every one year the military pays f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Finances 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56" name="Content Placeholder 3" descr=""/>
          <p:cNvPicPr/>
          <p:nvPr/>
        </p:nvPicPr>
        <p:blipFill>
          <a:blip r:embed="rId1"/>
          <a:stretch/>
        </p:blipFill>
        <p:spPr>
          <a:xfrm>
            <a:off x="863640" y="2719440"/>
            <a:ext cx="741672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1T23:00:38Z</dcterms:created>
  <dc:creator>Thomas Peter</dc:creator>
  <dc:description/>
  <dc:language>en-US</dc:language>
  <cp:lastModifiedBy>Thomas Peter</cp:lastModifiedBy>
  <dcterms:modified xsi:type="dcterms:W3CDTF">2012-04-02T23:08:34Z</dcterms:modified>
  <cp:revision>3</cp:revision>
  <dc:subject/>
  <dc:title>          I-Search</dc:title>
</cp:coreProperties>
</file>