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C2DF-43B7-45AF-90BD-30F1CC0A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1E9C-D361-4D54-AB8E-8F3F4955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31E9-2F49-45F1-8C31-FCB6C4EC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A59D-96E2-4B15-812E-2345E1F4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4DCA-779B-4A73-9642-E50271A4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9DC9-048F-49E2-B03F-0EA369DD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7876-BD97-4311-9477-0C025A17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4B7E-7FA3-49E1-9FAC-34980DB2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F9C2-C37C-4E08-A8DD-6B05C0A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184D-A79F-4B00-8E1C-AEECC4F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E8E6-BB05-4BA4-8CF2-1C80BB63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4D7C-944D-4D2E-B75C-664DC8B0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4091-EE0F-41EA-B85E-21C7ECD11D3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BA5-BEAA-43A9-ADFB-F43C27DB0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7320"/>
            <a:ext cx="7315200" cy="30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I-Search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t Pe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s: UCon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to 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xpensive for a col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y of Avery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ollege: Steubenvill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2,000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nursing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ia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rl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Emergency Room Nurs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ful job involving long hours and sometimes difficul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alary between $60,000 and $100,000 in the begi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job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d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770200"/>
            <a:ext cx="7315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ubenville is $28,3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Conn is $21,720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ROTC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s for tuition and f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paychec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two years for every one year the military pays 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inances 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863640" y="2719440"/>
            <a:ext cx="7416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3:00:38Z</dcterms:created>
  <dc:creator>Thomas Peter</dc:creator>
  <dc:description/>
  <dc:language>en-US</dc:language>
  <cp:lastModifiedBy>Thomas Peter</cp:lastModifiedBy>
  <dcterms:modified xsi:type="dcterms:W3CDTF">2012-04-02T23:08:34Z</dcterms:modified>
  <cp:revision>3</cp:revision>
  <dc:subject/>
  <dc:title>          I-Search</dc:title>
</cp:coreProperties>
</file>