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4615-0A53-4B77-95F9-31826877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D6F4-D50E-4D2A-A51F-23DDAB6B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9D98-F96D-47BF-83EC-BFBA700B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54FF-C921-4B82-B9BB-CC562A71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D56A-F045-4860-BD62-2E6DF96D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51E0-7317-467C-96AF-AF98CE8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E748-703E-412A-B49B-1AC181B4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0BB2-E987-43FB-BF35-72020D64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3727-9730-4B00-9F4E-048D7B9D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FA4D-A034-4126-9C10-1823203F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92AC-05B3-4AD5-AAFD-E79A493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F4BF-577E-4D0A-895B-1E661AE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4540-2784-4541-B7E4-C8D8111B495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419-EDF7-44AC-A7BC-2D4D7CA7D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7320"/>
            <a:ext cx="7315200" cy="30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I-Search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t Pe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olleges: UCon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to 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nursing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xpensive for a col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ility of Avery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,000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ollege: Steubenvill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2,000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nursing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ia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rl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Emergency Room Nurs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ssful job involving long hours and sometimes difficul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Salary between $60,000 and $100,000 in the begi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job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d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770200"/>
            <a:ext cx="7315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ubenville is $28,320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Conn is $21,720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ROTC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s for tuition and f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paychec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two years for every one year the military pays 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inances 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863640" y="2719440"/>
            <a:ext cx="7416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3:00:38Z</dcterms:created>
  <dc:creator>Thomas Peter</dc:creator>
  <dc:description/>
  <dc:language>en-US</dc:language>
  <cp:lastModifiedBy>Thomas Peter</cp:lastModifiedBy>
  <dcterms:modified xsi:type="dcterms:W3CDTF">2012-04-02T23:08:34Z</dcterms:modified>
  <cp:revision>3</cp:revision>
  <dc:subject/>
  <dc:title>          I-Search</dc:title>
</cp:coreProperties>
</file>