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2DE9-D64E-406B-98AB-913A50530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99F1-6F42-44A8-93D1-4F71B1A4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AF03-EB5F-46E3-8D47-CF6C0E6A6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6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7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5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6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7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736F-9C20-403E-86FD-53D4CE371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D027-6E20-402D-9737-9180F9DE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0FD7-AE8F-40FB-A9ED-A0ACE13E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631D-BE44-4BE4-AC28-CC366DFD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49BA-63CA-4CD1-8322-207179A9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E631-B69E-4071-B853-0E5AFACE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25400" y="313920"/>
            <a:ext cx="7693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B5BC-9341-4863-8CD0-E67FB2BD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4973-A468-41E0-8B87-2B658206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8C8D-A6C7-43D2-A2D0-10DF7123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0BF6-8247-4448-8D67-352E443C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BE30-EBCC-4029-9C08-78C5097C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9CE1-F60F-4672-AD3A-A6A5BD45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9196-A98D-49BD-92E7-992E2E688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26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7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25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26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27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DA67-8B4E-4F1B-869F-AD395F0CF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DC52A-A377-425C-9D8B-88313FC58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D547A-09F0-4C6B-8A19-D02BE607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22F94-E8BB-47F6-8103-BA9FF8C8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A83C9-D154-42E7-A0B0-D2151FCC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5ED57-332D-4208-AB67-11C21CE4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C576-BF9B-4FF8-9482-F2079A1D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25400" y="313920"/>
            <a:ext cx="7693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C7D37-30AE-42AF-BFC6-FEE6CC25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1AE22-5483-40F1-87C7-888074CB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208C5-7BA8-44CD-8A12-A6CD3416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6ED70-F648-4B2F-AAE3-57052214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CB073-CDD3-4D13-B745-E0DCFA68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2A86D-38A9-4135-A16E-9D166BB58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26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27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25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26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27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57AF3-8773-47DE-9B4A-5159DA16A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43D7E-9EA8-4556-8358-FBBD5FA40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78A28-D565-463E-8D56-EEBFFDBD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E69D4-193C-4376-8272-293137FF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C598-20D7-4680-ACD2-DEB6E67A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06BDC-AB55-48CD-80BF-BABD9B7E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ACE36-23CF-4392-8F34-3A0AD91A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725400" y="313920"/>
            <a:ext cx="7693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90F0A-C976-45BD-B726-13741994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B24F7-EE2C-4C62-885A-8B7450E7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9DC14-0E6B-470F-A8CA-61F04BD4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91E97-C9CD-411A-AD7C-9514D95B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8862A-D34F-4D3A-BB44-33F7A987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62E1B-9C15-4A9F-A195-1F6096238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26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27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725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26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27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D0576-BE3C-4730-A9D2-EF1C8A2A0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E0F39-CD09-49A0-81D3-AE227104A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125A-153F-4B58-BCCB-7C5E4AAA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B8F37-3B46-4409-93D6-50925978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540C4-D012-487F-9489-EF017FA2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E9BB4-5C2B-4049-96CE-1552B05E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9379A-24BA-464E-AEC3-22E52407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25400" y="313920"/>
            <a:ext cx="7693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3C44E-1D86-4219-A528-017D6522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032E6-015D-4CE6-8A6B-F3E1D716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ED741-4E0E-42C7-A817-3DF1F840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01136-1AE7-42A6-AB73-0E57876A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94BD2-FE14-46B1-AA5B-919A0A68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CDA76-10E8-4C68-ADED-57153AD71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5400" y="313920"/>
            <a:ext cx="7693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0A13-3831-4B93-8D1C-FA78DD00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26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27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725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26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27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FB67E-BC38-446D-9853-F9C3E7117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9ACC-204D-4D17-B1F2-4149B9F9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9E22-9D9F-4AF3-A35A-9973E04D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DDE7-C492-4956-A4FF-1BD9C178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914400" indent="-457200">
              <a:spcBef>
                <a:spcPts val="2401"/>
              </a:spcBef>
              <a:buClr>
                <a:srgbClr val="a6a6a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1263600" indent="-349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1600200" indent="-336600">
              <a:spcBef>
                <a:spcPts val="2401"/>
              </a:spcBef>
              <a:buClr>
                <a:srgbClr val="a6a6a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946160" indent="-34596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946160" indent="-345960"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946160" indent="-345960"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078B-A751-41DA-B9E7-DF089E805F93}" type="slidenum">
              <a:rPr b="0" lang="en-US" sz="14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paperBackingColor.jpg"/>
          <p:cNvPicPr/>
          <p:nvPr/>
        </p:nvPicPr>
        <p:blipFill>
          <a:blip r:embed="rId3"/>
          <a:stretch/>
        </p:blipFill>
        <p:spPr>
          <a:xfrm>
            <a:off x="1504800" y="646200"/>
            <a:ext cx="6175440" cy="4035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914400" indent="-457200"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2" marL="1263600" indent="-34920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600200" indent="-336600"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4" marL="1946160" indent="-34596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5" marL="1946160" indent="-34596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6" marL="1946160" indent="-34596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6A0E-90B0-460B-A3FF-FBD4727F74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titlePhotoBacking-r.png"/>
          <p:cNvPicPr/>
          <p:nvPr/>
        </p:nvPicPr>
        <p:blipFill>
          <a:blip r:embed="rId3"/>
          <a:srcRect l="17351" t="9414" r="17503" b="32352"/>
          <a:stretch/>
        </p:blipFill>
        <p:spPr>
          <a:xfrm>
            <a:off x="1587600" y="646200"/>
            <a:ext cx="5956200" cy="3992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914400" indent="-457200"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2" marL="1263600" indent="-34920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600200" indent="-336600"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4" marL="1946160" indent="-34596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5" marL="1946160" indent="-34596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6" marL="1946160" indent="-34596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2412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3c5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3c58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24120"/>
            <a:ext cx="28958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2412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3c5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9389-5950-4184-ADEB-F9173947F7F2}" type="slidenum">
              <a:rPr b="0" lang="en-US" sz="1400" spc="-1" strike="noStrike">
                <a:solidFill>
                  <a:srgbClr val="c3c58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914400" indent="-457200"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2" marL="1263600" indent="-34920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600200" indent="-336600"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4" marL="1946160" indent="-34596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5" marL="1946160" indent="-34596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6" marL="1946160" indent="-34596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3c5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3c58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3c5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DF26-4F07-4574-89F3-5A9CB844E4AA}" type="slidenum">
              <a:rPr b="0" lang="en-US" sz="1400" spc="-1" strike="noStrike">
                <a:solidFill>
                  <a:srgbClr val="c3c58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6" descr="pictureCaptionBacking.png"/>
          <p:cNvPicPr/>
          <p:nvPr/>
        </p:nvPicPr>
        <p:blipFill>
          <a:blip r:embed="rId3"/>
          <a:srcRect l="52275" t="8888" r="5153" b="16565"/>
          <a:stretch/>
        </p:blipFill>
        <p:spPr>
          <a:xfrm>
            <a:off x="4594320" y="663480"/>
            <a:ext cx="3892320" cy="5112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914400" indent="-457200">
              <a:spcBef>
                <a:spcPts val="2401"/>
              </a:spcBef>
              <a:buClr>
                <a:srgbClr val="a6a6a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1263600" indent="-349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1600200" indent="-336600">
              <a:spcBef>
                <a:spcPts val="2401"/>
              </a:spcBef>
              <a:buClr>
                <a:srgbClr val="a6a6a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946160" indent="-34596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946160" indent="-345960"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946160" indent="-345960"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961E-172D-457F-95AC-104A222383A9}" type="slidenum">
              <a:rPr b="0" lang="en-US" sz="14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09640" y="1143000"/>
            <a:ext cx="5724720" cy="23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6633c"/>
                </a:solidFill>
                <a:latin typeface="Calisto MT"/>
              </a:rPr>
              <a:t>Australia’s Most Dangerous Animals</a:t>
            </a:r>
            <a:endParaRPr b="0" lang="en-US" sz="6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709640" y="3665160"/>
            <a:ext cx="572472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6633c"/>
                </a:solidFill>
                <a:latin typeface="Calisto MT"/>
              </a:rPr>
              <a:t>By Matt Peter</a:t>
            </a:r>
            <a:endParaRPr b="0" lang="en-US" sz="19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Calisto MT"/>
              </a:rPr>
              <a:t>Box Jellyfish</a:t>
            </a: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211" name="Content Placeholder 3" descr="Box Jellyfish5.jpg"/>
          <p:cNvPicPr/>
          <p:nvPr/>
        </p:nvPicPr>
        <p:blipFill>
          <a:blip r:embed="rId1"/>
          <a:srcRect l="0" t="5390" r="0" b="5390"/>
          <a:stretch/>
        </p:blipFill>
        <p:spPr>
          <a:xfrm>
            <a:off x="725400" y="1587600"/>
            <a:ext cx="7693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Calisto MT"/>
              </a:rPr>
              <a:t>Irukanji</a:t>
            </a: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213" name="Content Placeholder 3" descr="irukandji-jellyfish-200802.jpg"/>
          <p:cNvPicPr/>
          <p:nvPr/>
        </p:nvPicPr>
        <p:blipFill>
          <a:blip r:embed="rId1"/>
          <a:srcRect l="-1181" t="5843" r="0" b="51101"/>
          <a:stretch/>
        </p:blipFill>
        <p:spPr>
          <a:xfrm>
            <a:off x="725400" y="1623960"/>
            <a:ext cx="76932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23800" y="4952880"/>
            <a:ext cx="8096400" cy="8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8e9d1"/>
                </a:solidFill>
                <a:latin typeface="Calisto MT"/>
              </a:rPr>
              <a:t>Blue Ring Octopus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523800" y="5791320"/>
            <a:ext cx="809640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8e9d1"/>
              </a:solidFill>
              <a:latin typeface="Calisto MT"/>
            </a:endParaRPr>
          </a:p>
        </p:txBody>
      </p:sp>
      <p:pic>
        <p:nvPicPr>
          <p:cNvPr id="216" name="Picture Placeholder 4" descr="610_ag_blue-ringed-octopus.jpg"/>
          <p:cNvPicPr/>
          <p:nvPr/>
        </p:nvPicPr>
        <p:blipFill>
          <a:blip r:embed="rId1"/>
          <a:srcRect l="10824" t="0" r="10824" b="0"/>
          <a:stretch/>
        </p:blipFill>
        <p:spPr>
          <a:xfrm>
            <a:off x="1765440" y="804960"/>
            <a:ext cx="5638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Calisto MT"/>
              </a:rPr>
              <a:t>Eastern Brown Snake</a:t>
            </a: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218" name="Content Placeholder 3" descr="EastBrown2.jpg"/>
          <p:cNvPicPr/>
          <p:nvPr/>
        </p:nvPicPr>
        <p:blipFill>
          <a:blip r:embed="rId1"/>
          <a:srcRect l="0" t="16506" r="0" b="16506"/>
          <a:stretch/>
        </p:blipFill>
        <p:spPr>
          <a:xfrm>
            <a:off x="725400" y="1587600"/>
            <a:ext cx="7693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23800" y="4952880"/>
            <a:ext cx="8096400" cy="8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8e9d1"/>
                </a:solidFill>
                <a:latin typeface="Calisto MT"/>
              </a:rPr>
              <a:t>Saltwater Crocodile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23800" y="5791320"/>
            <a:ext cx="809640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8e9d1"/>
              </a:solidFill>
              <a:latin typeface="Calisto MT"/>
            </a:endParaRPr>
          </a:p>
        </p:txBody>
      </p:sp>
      <p:pic>
        <p:nvPicPr>
          <p:cNvPr id="221" name="Picture Placeholder 4" descr="220px-SaltwaterCrocodile('Maximo').jpg"/>
          <p:cNvPicPr/>
          <p:nvPr/>
        </p:nvPicPr>
        <p:blipFill>
          <a:blip r:embed="rId1"/>
          <a:srcRect l="0" t="6751" r="0" b="6751"/>
          <a:stretch/>
        </p:blipFill>
        <p:spPr>
          <a:xfrm>
            <a:off x="1765440" y="804960"/>
            <a:ext cx="5638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Calisto MT"/>
              </a:rPr>
              <a:t>Platypus</a:t>
            </a: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223" name="Content Placeholder 4" descr="20070704_platypus.jpg"/>
          <p:cNvPicPr/>
          <p:nvPr/>
        </p:nvPicPr>
        <p:blipFill>
          <a:blip r:embed="rId1"/>
          <a:srcRect l="8665" t="0" r="8665" b="0"/>
          <a:stretch/>
        </p:blipFill>
        <p:spPr>
          <a:xfrm>
            <a:off x="723960" y="1587600"/>
            <a:ext cx="3776760" cy="4583160"/>
          </a:xfrm>
          <a:prstGeom prst="rect">
            <a:avLst/>
          </a:prstGeom>
          <a:ln w="0">
            <a:noFill/>
          </a:ln>
        </p:spPr>
      </p:pic>
      <p:pic>
        <p:nvPicPr>
          <p:cNvPr id="224" name="Content Placeholder 5" descr="14. Platypus.jpg"/>
          <p:cNvPicPr/>
          <p:nvPr/>
        </p:nvPicPr>
        <p:blipFill>
          <a:blip r:embed="rId2"/>
          <a:srcRect l="0" t="-18770" r="0" b="-18770"/>
          <a:stretch/>
        </p:blipFill>
        <p:spPr>
          <a:xfrm>
            <a:off x="4648320" y="1587600"/>
            <a:ext cx="377640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25400" y="601200"/>
            <a:ext cx="76932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Conclusion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Depending on where you go you will encounter different kinds of animal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457200" indent="-457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ese animals dangerous but also add to the uniqueness of the world. 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457200" indent="-457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It is useful to be aware of what you may encounter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457200" indent="-45720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7T16:20:35Z</dcterms:created>
  <dc:creator>Thomas Peter</dc:creator>
  <dc:description/>
  <dc:language>en-US</dc:language>
  <cp:lastModifiedBy>Thomas Peter</cp:lastModifiedBy>
  <dcterms:modified xsi:type="dcterms:W3CDTF">2012-06-07T16:42:55Z</dcterms:modified>
  <cp:revision>2</cp:revision>
  <dc:subject/>
  <dc:title>Australia’s Most Dangerous Animals</dc:title>
</cp:coreProperties>
</file>