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DDC-3E5B-40DB-9631-AF5ACFF5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B48-7F3F-4DCC-8503-BE5DE5BF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E99-09AB-4BCE-AFCE-0CA1ED65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44C-AA1B-4FD2-8646-7CB6FC80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10BA-DF53-4284-A9F2-F5047246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F178-6857-4685-9B11-E0D39E0B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B0B3-A02C-40AE-A4F9-D9B6927B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0A5E-FB9F-4513-99B2-5D649223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2882-EBB8-4C68-972B-CD8760AF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F2CB-79A1-422D-B95C-ED3A0B1A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1B0E-C0B9-4F47-9637-81776C02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C31-1E5E-4098-B25F-D8EA9849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6D52-604E-42B6-A82F-70601DDE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0DEF-19A0-438B-918C-6D82BDF3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BB5A-CFAB-48AE-8EFF-C81F68F8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92BD-07C7-4081-86F9-AFA2316F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7647-A2A4-45E0-A852-597361B4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2C07-1503-4D17-B0EA-FB4D762B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E93A6-265F-4E78-93AD-4839CEDC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48EC0-D011-46AA-81B7-0C4F2B38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4AA02-12D9-4693-8580-64D935B6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1B1F-2694-49B7-94E5-8822A14F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0C5-1D9E-4EFB-A63C-275405C3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892A3-FF64-476B-B1B4-2BBA0AB5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FF7C0-821C-48D3-B896-0AED8C42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5037E-C234-4CF6-A4D5-5B9E642C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9AA0A-B926-448E-8CD0-4A26CE80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44964-40DD-47D6-91A7-1D6B3108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BE9F-9C70-47C8-B280-42D9204E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3DD99-3FAD-4E8E-AECB-193E34FE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C0C37-F641-4F40-BB8D-7CACBA76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C86F6-FE02-49A5-8E3B-18F21B22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EB16D-D253-4F04-954B-727FC59C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5DF-7418-48B0-87B2-37B1FD9A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FF9E0-F481-45F8-8DEB-1720FE44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53916-796A-4439-AFD5-B4A643B3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82B68-D27B-42DE-A84A-90F5E709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FC435-1554-4534-A58C-F0F15814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55A07-3FBC-4D6C-A68F-EE8AD6B0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E3E48-024F-4DE8-B3E5-AF15E226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D8C9E-DB52-4FEA-9500-3DB24F55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F5E0C-6FDF-40A7-9153-5C21E020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516B5-08AD-40B8-9C13-B1041BC1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4E590-E625-4F82-861C-A37EF0BC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15E-54FB-4420-9327-F4D8C7E4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2EFA5-782B-4090-B6B8-9A1916A4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B7C6C-25BD-407D-8B98-B75A1378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A40C6-518D-4D8C-988C-CB3C02F7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9E332-8D0A-4587-899C-C2D5C8F4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BB17C-80ED-452F-8AB5-5590B7AA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BBA62-AEC9-4CA2-A8DD-0AE69C16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1FB9B-E516-4964-99D2-F4611A5B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0A911-C576-4C15-8B10-EB0E6743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D70B9-3AB1-4FB8-A36E-68640ED0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BB9D9-CC17-4798-BCEA-2DC62D4C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35C-8849-4F27-BD01-62DA093E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4020A-59F3-4C0C-8F28-3E1461BB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671-1E38-401B-80BD-05B44838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8C7-6C50-4C6A-B1FC-F583605B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18F-1C6A-4220-9F4C-D4471C7C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113F-2B79-416E-A79E-4CD40227395E}" type="slidenum"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paperBackingColor.jpg"/>
          <p:cNvPicPr/>
          <p:nvPr/>
        </p:nvPicPr>
        <p:blipFill>
          <a:blip r:embed="rId3"/>
          <a:stretch/>
        </p:blipFill>
        <p:spPr>
          <a:xfrm>
            <a:off x="1504800" y="646200"/>
            <a:ext cx="6175440" cy="4035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DB54-F574-4296-ABC6-A043D83856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titlePhotoBacking-r.png"/>
          <p:cNvPicPr/>
          <p:nvPr/>
        </p:nvPicPr>
        <p:blipFill>
          <a:blip r:embed="rId3"/>
          <a:srcRect l="17351" t="9414" r="17503" b="32352"/>
          <a:stretch/>
        </p:blipFill>
        <p:spPr>
          <a:xfrm>
            <a:off x="1587600" y="646200"/>
            <a:ext cx="5956200" cy="3992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2412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2412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2412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B4C7-F081-44F9-97C2-5901F79B20E0}" type="slidenum"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FBFF-33B6-489A-84E5-B71EA23F7C7F}" type="slidenum"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pictureCaptionBacking.png"/>
          <p:cNvPicPr/>
          <p:nvPr/>
        </p:nvPicPr>
        <p:blipFill>
          <a:blip r:embed="rId3"/>
          <a:srcRect l="52275" t="8888" r="5153" b="16565"/>
          <a:stretch/>
        </p:blipFill>
        <p:spPr>
          <a:xfrm>
            <a:off x="4594320" y="663480"/>
            <a:ext cx="3892320" cy="5112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A49A-40B8-4235-8B70-67FF3DD3B4EE}" type="slidenum"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09640" y="1143000"/>
            <a:ext cx="5724720" cy="23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6633c"/>
                </a:solidFill>
                <a:latin typeface="Calisto MT"/>
              </a:rPr>
              <a:t>Australia’s Most Dangerous Animals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09640" y="3665160"/>
            <a:ext cx="572472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6633c"/>
                </a:solidFill>
                <a:latin typeface="Calisto MT"/>
              </a:rPr>
              <a:t>By Matt Peter</a:t>
            </a:r>
            <a:endParaRPr b="0" lang="en-US" sz="19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Box Jellyfish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211" name="Content Placeholder 3" descr="Box Jellyfish5.jpg"/>
          <p:cNvPicPr/>
          <p:nvPr/>
        </p:nvPicPr>
        <p:blipFill>
          <a:blip r:embed="rId1"/>
          <a:srcRect l="0" t="5390" r="0" b="5390"/>
          <a:stretch/>
        </p:blipFill>
        <p:spPr>
          <a:xfrm>
            <a:off x="725400" y="1587600"/>
            <a:ext cx="7693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Irukanji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213" name="Content Placeholder 3" descr="irukandji-jellyfish-200802.jpg"/>
          <p:cNvPicPr/>
          <p:nvPr/>
        </p:nvPicPr>
        <p:blipFill>
          <a:blip r:embed="rId1"/>
          <a:srcRect l="-1181" t="5843" r="0" b="51101"/>
          <a:stretch/>
        </p:blipFill>
        <p:spPr>
          <a:xfrm>
            <a:off x="725400" y="1623960"/>
            <a:ext cx="7693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3800" y="4952880"/>
            <a:ext cx="80964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8e9d1"/>
                </a:solidFill>
                <a:latin typeface="Calisto MT"/>
              </a:rPr>
              <a:t>Blue Ring Octopus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23800" y="5791320"/>
            <a:ext cx="8096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8e9d1"/>
              </a:solidFill>
              <a:latin typeface="Calisto MT"/>
            </a:endParaRPr>
          </a:p>
        </p:txBody>
      </p:sp>
      <p:pic>
        <p:nvPicPr>
          <p:cNvPr id="216" name="Picture Placeholder 4" descr="610_ag_blue-ringed-octopus.jpg"/>
          <p:cNvPicPr/>
          <p:nvPr/>
        </p:nvPicPr>
        <p:blipFill>
          <a:blip r:embed="rId1"/>
          <a:srcRect l="10824" t="0" r="10824" b="0"/>
          <a:stretch/>
        </p:blipFill>
        <p:spPr>
          <a:xfrm>
            <a:off x="1765440" y="804960"/>
            <a:ext cx="563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Eastern Brown Snake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218" name="Content Placeholder 3" descr="EastBrown2.jpg"/>
          <p:cNvPicPr/>
          <p:nvPr/>
        </p:nvPicPr>
        <p:blipFill>
          <a:blip r:embed="rId1"/>
          <a:srcRect l="0" t="16506" r="0" b="16506"/>
          <a:stretch/>
        </p:blipFill>
        <p:spPr>
          <a:xfrm>
            <a:off x="725400" y="1587600"/>
            <a:ext cx="7693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3800" y="4952880"/>
            <a:ext cx="80964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8e9d1"/>
                </a:solidFill>
                <a:latin typeface="Calisto MT"/>
              </a:rPr>
              <a:t>Saltwater Crocodile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23800" y="5791320"/>
            <a:ext cx="8096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8e9d1"/>
              </a:solidFill>
              <a:latin typeface="Calisto MT"/>
            </a:endParaRPr>
          </a:p>
        </p:txBody>
      </p:sp>
      <p:pic>
        <p:nvPicPr>
          <p:cNvPr id="221" name="Picture Placeholder 4" descr="220px-SaltwaterCrocodile('Maximo').jpg"/>
          <p:cNvPicPr/>
          <p:nvPr/>
        </p:nvPicPr>
        <p:blipFill>
          <a:blip r:embed="rId1"/>
          <a:srcRect l="0" t="6751" r="0" b="6751"/>
          <a:stretch/>
        </p:blipFill>
        <p:spPr>
          <a:xfrm>
            <a:off x="1765440" y="804960"/>
            <a:ext cx="563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Platypus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223" name="Content Placeholder 4" descr="20070704_platypus.jpg"/>
          <p:cNvPicPr/>
          <p:nvPr/>
        </p:nvPicPr>
        <p:blipFill>
          <a:blip r:embed="rId1"/>
          <a:srcRect l="8665" t="0" r="8665" b="0"/>
          <a:stretch/>
        </p:blipFill>
        <p:spPr>
          <a:xfrm>
            <a:off x="723960" y="1587600"/>
            <a:ext cx="3776760" cy="4583160"/>
          </a:xfrm>
          <a:prstGeom prst="rect">
            <a:avLst/>
          </a:prstGeom>
          <a:ln w="0">
            <a:noFill/>
          </a:ln>
        </p:spPr>
      </p:pic>
      <p:pic>
        <p:nvPicPr>
          <p:cNvPr id="224" name="Content Placeholder 5" descr="14. Platypus.jpg"/>
          <p:cNvPicPr/>
          <p:nvPr/>
        </p:nvPicPr>
        <p:blipFill>
          <a:blip r:embed="rId2"/>
          <a:srcRect l="0" t="-18770" r="0" b="-18770"/>
          <a:stretch/>
        </p:blipFill>
        <p:spPr>
          <a:xfrm>
            <a:off x="4648320" y="1587600"/>
            <a:ext cx="37764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25400" y="601200"/>
            <a:ext cx="76932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onclusion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Depending on where you go you will encounter different kinds of animal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ese animals dangerous but also add to the uniqueness of the world.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t is useful to be aware of what you may encount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6:20:35Z</dcterms:created>
  <dc:creator>Thomas Peter</dc:creator>
  <dc:description/>
  <dc:language>en-US</dc:language>
  <cp:lastModifiedBy>Thomas Peter</cp:lastModifiedBy>
  <dcterms:modified xsi:type="dcterms:W3CDTF">2012-06-07T16:42:55Z</dcterms:modified>
  <cp:revision>2</cp:revision>
  <dc:subject/>
  <dc:title>Australia’s Most Dangerous Animals</dc:title>
</cp:coreProperties>
</file>