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C5D-0EC3-468A-9427-7DE556D0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C8D-613C-44BF-B7CB-94E5F972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148-EF51-44EB-9E2B-2E11942A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A60-714F-4302-9B44-1BBD306D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4A1-D00F-45EE-A69C-AD5A18C4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3BFC-CCE2-44F3-A4AC-25655329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C68E-4C45-4772-9062-04310E5C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A13C-8AAD-4D87-9193-D581523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5663-61A4-4E11-A20E-45DB85E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BD8E-28B8-48E2-9EAB-3D728DBF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BE20-2D9E-47C1-97BC-C40F0B2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DBF-A38F-4869-8C23-5FFCA431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6F73-59CF-43A4-A03D-4497ECA6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6F88-3E0A-419B-A720-04D5C4E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1F46-5681-4D13-A680-7C6C6BB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DD12-CEFA-456A-83DC-06B62A65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C5C2-24C4-4270-B789-51796748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6338-E83F-4BFA-809A-01032B1B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36C2-9CC2-469C-913E-DC828FD2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A5D6-D4DD-4D11-BB3C-17CB96E3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EEB0-3CB1-4BC3-AF28-B1B526D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D413-7FA3-4221-81F5-3D2E2A1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AEC-36D6-4B08-B78A-F203608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246A4-EB41-4A7A-9297-FEA677E2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9A00-83B3-4F38-A092-D95CA83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4069D-25D3-4A1E-8185-A9B1A1D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DAE1-1224-4AF4-A779-9733A9D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6EB7-42CE-4E96-99FC-831BA182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7C5E-EB50-4CF4-B413-3995D6D3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EB718-3422-45E5-BD10-F883D042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EF28-82FB-4250-8C9F-0ACFA22B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46E76-BFF0-4446-A2E2-208917D9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1E10-7852-4AFA-95DE-85A40310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B79-3592-4D91-9790-EF1FDC50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F58C-B796-4410-9298-153B62F7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122A-97E3-42ED-AE6E-7520AB0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8C4E-6BB3-4E60-AF17-924CDBED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9C6E-64DC-4872-BB33-2FF13356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BAC37-B92D-493F-BA29-ED3EF0D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1FE3-7F27-4C96-A5DA-38F41A1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9B1B-00D3-415D-9492-C30B4AB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0A55-163E-41D7-A2C5-E388E2AB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1248-4C24-4C2A-84B1-1DBB8E09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48C9-7AB9-4877-BAAA-3BE650A8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FA6-B1A4-4B74-B4B9-DD61E62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C3CD-7B09-4066-B6E0-026AEF29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5291-2864-47B2-A2EC-74F09B7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A583-7693-4C27-A9D2-A4A4C50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D351-5968-4D82-AE76-884653D2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CB3F-C5AF-4ADB-895D-B3D6932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EAC8D-CF34-48C4-B9EA-77F68FA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F5A0C-79E3-49EE-A19C-E67D3C7D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7E63-F8C2-467D-8A09-04941D6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D0BC-9977-4253-9AEA-017293B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62866-F00C-43E2-83B4-F159B6D0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282-D496-4B24-95FE-BC11146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CBA78-53D6-41D5-ADF5-914A20C1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693-2317-4F41-8900-682B8FE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8A8-6F7B-4372-8A8F-5ED3582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CEE-9EC0-4105-A02A-07EDDCF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D7F-EB55-4604-9DDE-F120C9644DEC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aperBackingColor.jpg"/>
          <p:cNvPicPr/>
          <p:nvPr/>
        </p:nvPicPr>
        <p:blipFill>
          <a:blip r:embed="rId3"/>
          <a:stretch/>
        </p:blipFill>
        <p:spPr>
          <a:xfrm>
            <a:off x="1504800" y="646200"/>
            <a:ext cx="6175440" cy="403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B8B0-143B-4291-A193-F83DF6FD8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titlePhotoBacking-r.png"/>
          <p:cNvPicPr/>
          <p:nvPr/>
        </p:nvPicPr>
        <p:blipFill>
          <a:blip r:embed="rId3"/>
          <a:srcRect l="17351" t="9414" r="17503" b="32352"/>
          <a:stretch/>
        </p:blipFill>
        <p:spPr>
          <a:xfrm>
            <a:off x="1587600" y="646200"/>
            <a:ext cx="5956200" cy="3992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B1B2-6139-477E-B739-7BCC34E13E55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88C-B1F4-45B9-BF8C-D80535AD9DB7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ictureCaptionBacking.png"/>
          <p:cNvPicPr/>
          <p:nvPr/>
        </p:nvPicPr>
        <p:blipFill>
          <a:blip r:embed="rId3"/>
          <a:srcRect l="52275" t="8888" r="5153" b="16565"/>
          <a:stretch/>
        </p:blipFill>
        <p:spPr>
          <a:xfrm>
            <a:off x="4594320" y="663480"/>
            <a:ext cx="3892320" cy="511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AC8-CAC0-4127-A8EB-C120DACAD865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09640" y="1143000"/>
            <a:ext cx="5724720" cy="23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Australia’s Most Dangerous Animals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09640" y="3665160"/>
            <a:ext cx="572472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633c"/>
                </a:solidFill>
                <a:latin typeface="Calisto MT"/>
              </a:rPr>
              <a:t>By Matt Peter</a:t>
            </a:r>
            <a:endParaRPr b="0" lang="en-US" sz="1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Box Jellyfish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1" name="Content Placeholder 3" descr="Box Jellyfish5.jpg"/>
          <p:cNvPicPr/>
          <p:nvPr/>
        </p:nvPicPr>
        <p:blipFill>
          <a:blip r:embed="rId1"/>
          <a:srcRect l="0" t="5390" r="0" b="5390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Irukanji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3" name="Content Placeholder 3" descr="irukandji-jellyfish-200802.jpg"/>
          <p:cNvPicPr/>
          <p:nvPr/>
        </p:nvPicPr>
        <p:blipFill>
          <a:blip r:embed="rId1"/>
          <a:srcRect l="-1181" t="5843" r="0" b="51101"/>
          <a:stretch/>
        </p:blipFill>
        <p:spPr>
          <a:xfrm>
            <a:off x="725400" y="1623960"/>
            <a:ext cx="7693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Blue Ring Octopus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16" name="Picture Placeholder 4" descr="610_ag_blue-ringed-octopus.jpg"/>
          <p:cNvPicPr/>
          <p:nvPr/>
        </p:nvPicPr>
        <p:blipFill>
          <a:blip r:embed="rId1"/>
          <a:srcRect l="10824" t="0" r="10824" b="0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Eastern Brown Snake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8" name="Content Placeholder 3" descr="EastBrown2.jpg"/>
          <p:cNvPicPr/>
          <p:nvPr/>
        </p:nvPicPr>
        <p:blipFill>
          <a:blip r:embed="rId1"/>
          <a:srcRect l="0" t="16506" r="0" b="16506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Saltwater Crocodile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21" name="Picture Placeholder 4" descr="220px-SaltwaterCrocodile('Maximo').jpg"/>
          <p:cNvPicPr/>
          <p:nvPr/>
        </p:nvPicPr>
        <p:blipFill>
          <a:blip r:embed="rId1"/>
          <a:srcRect l="0" t="6751" r="0" b="6751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Platypus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23" name="Content Placeholder 4" descr="20070704_platypus.jpg"/>
          <p:cNvPicPr/>
          <p:nvPr/>
        </p:nvPicPr>
        <p:blipFill>
          <a:blip r:embed="rId1"/>
          <a:srcRect l="8665" t="0" r="8665" b="0"/>
          <a:stretch/>
        </p:blipFill>
        <p:spPr>
          <a:xfrm>
            <a:off x="723960" y="1587600"/>
            <a:ext cx="3776760" cy="458316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5" descr="14. Platypus.jpg"/>
          <p:cNvPicPr/>
          <p:nvPr/>
        </p:nvPicPr>
        <p:blipFill>
          <a:blip r:embed="rId2"/>
          <a:srcRect l="0" t="-18770" r="0" b="-18770"/>
          <a:stretch/>
        </p:blipFill>
        <p:spPr>
          <a:xfrm>
            <a:off x="4648320" y="1587600"/>
            <a:ext cx="3776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5400" y="601200"/>
            <a:ext cx="76932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onclusi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Depending on where you go you will encounter different kinds of animal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se animals dangerous but also add to the uniqueness of the world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t is useful to be aware of what you may encoun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0:35Z</dcterms:created>
  <dc:creator>Thomas Peter</dc:creator>
  <dc:description/>
  <dc:language>en-US</dc:language>
  <cp:lastModifiedBy>Thomas Peter</cp:lastModifiedBy>
  <dcterms:modified xsi:type="dcterms:W3CDTF">2012-06-07T16:42:55Z</dcterms:modified>
  <cp:revision>2</cp:revision>
  <dc:subject/>
  <dc:title>Australia’s Most Dangerous Animals</dc:title>
</cp:coreProperties>
</file>