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7A8E-E379-4A91-BDE0-5D57D5AB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ECD-A53A-45D2-A238-D545B613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110-3BCE-44F6-95FC-6EB22E9E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C2D6-DA77-4056-B09B-8FEA9E46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0CDC-2747-4916-AE99-14A218D0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A555-B59D-4883-90F3-5E1737A3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6B9A-04FA-4AF3-9267-1DBBCED0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1740-C747-4CF0-BD2F-FBF6D632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B13F-8CC9-4E7D-8A53-FF41115B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28A6-948F-4825-AF7E-E3536E78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EA64-6207-4246-B7F1-90BAD827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1078-7133-43F6-8407-AE8AA3F1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5AAC-75E9-4815-9CEF-2137BCCB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BB39-E409-4946-B7C9-D59C7512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6073-A967-4E86-B165-71B0F902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99FD-E897-4544-9756-6D607D8A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053C-1F9D-4D7E-A16C-6511297B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EC3FF-A675-4488-BE5E-AFBA54A5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34DEB-4350-42B0-9CF5-8CBA4A84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8534F-C704-41B2-8D21-B828448C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4AE69-2EC3-480B-A710-C575A939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3BA81-27D7-408B-817C-37C7E11B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402-1EF8-40E2-A65C-EF916555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31236-1B25-49E0-9F6C-247BDF2F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34375-2882-4369-AFAF-2622C111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D835F-A6B8-43ED-A6AE-154B5EC2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2AFC7-809A-40F1-A279-64F0F91C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ABF73-33E8-4C18-A290-C950FAB0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EAA39-0274-4619-B96C-D725AD76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53081-4FEF-48C6-B00E-F347BC31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35B5E-C854-4948-9DD7-DA343482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96366-0CF7-4104-B5BD-CD038F61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63CEF-8272-4104-9174-E0025B3F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870-0E7D-4D5C-97D1-7A99A04C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96EC8-F56F-47AA-AED8-521C8E59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AF907-EABB-4623-AE4B-6532018D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8D5FA-0F1B-4505-846F-AEFE4FA1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C1BB3-F7BB-4F57-8138-31440F55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25360-C8EA-46C3-814B-C546D15B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8A333-D3B6-4DAF-8054-73F95DDF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97DC5-0E73-4487-90ED-4150E576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E5BD2-149E-48F5-95AE-BC5A92CC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84634-BB28-40C6-A371-2C137705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27682-ED8D-4581-BC28-F17E5EC3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719-6CA6-44B9-A30B-78E64DFB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B9B5A-C75F-4B93-A752-EF93257E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84AA6-C4A4-4B20-9F2C-3EC66F4A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77687-9DF3-46AD-8230-BFD52115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A5B77-49B1-4456-9FC9-65C89EF2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1E97D-DDF3-4718-89CD-B14E6BBB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9B556-3DAE-4477-B411-DEED256A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54A56-900E-407E-A09D-F5F69F8B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D0C68-814E-48C9-AA27-2B5B66C1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04E6B-4B39-4C83-B093-3A05E6B1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5ADF2-0DDB-4FE2-AC84-593E2F65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5400" y="313920"/>
            <a:ext cx="769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FC0C-931B-4878-A3D0-071FAA55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26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7400" y="158760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25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26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7400" y="3975840"/>
            <a:ext cx="247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8E627-5881-4083-91FB-B1A357E0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C41-9BD0-44C4-9A08-2CE505AF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7584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62F3-79BC-4AC9-8FA0-373F7A2C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5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87600"/>
            <a:ext cx="3754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5400" y="3975840"/>
            <a:ext cx="76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6ECC-8126-46A4-AF37-F70941FE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946160" indent="-34596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946160" indent="-34596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946160" indent="-34596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843C-93CC-48EF-A7BA-5D0A6F68D84C}" type="slidenum">
              <a:rPr b="0" lang="en-US" sz="14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paperBackingColor.jpg"/>
          <p:cNvPicPr/>
          <p:nvPr/>
        </p:nvPicPr>
        <p:blipFill>
          <a:blip r:embed="rId3"/>
          <a:stretch/>
        </p:blipFill>
        <p:spPr>
          <a:xfrm>
            <a:off x="1504800" y="646200"/>
            <a:ext cx="6175440" cy="4035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5622-58A0-40E3-BC6B-5AE8299B1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titlePhotoBacking-r.png"/>
          <p:cNvPicPr/>
          <p:nvPr/>
        </p:nvPicPr>
        <p:blipFill>
          <a:blip r:embed="rId3"/>
          <a:srcRect l="17351" t="9414" r="17503" b="32352"/>
          <a:stretch/>
        </p:blipFill>
        <p:spPr>
          <a:xfrm>
            <a:off x="1587600" y="646200"/>
            <a:ext cx="5956200" cy="3992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2412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3c5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3c5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2412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2412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3c5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0ACC-1DFB-4362-A457-9530D451AB68}" type="slidenum">
              <a:rPr b="0" lang="en-US" sz="1400" spc="-1" strike="noStrike">
                <a:solidFill>
                  <a:srgbClr val="c3c5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1946160" indent="-345960">
              <a:spcBef>
                <a:spcPts val="2401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3c5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3c5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3c5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2A0F-5C5D-425F-90B3-4AD50B184AFA}" type="slidenum">
              <a:rPr b="0" lang="en-US" sz="1400" spc="-1" strike="noStrike">
                <a:solidFill>
                  <a:srgbClr val="c3c5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pictureCaptionBacking.png"/>
          <p:cNvPicPr/>
          <p:nvPr/>
        </p:nvPicPr>
        <p:blipFill>
          <a:blip r:embed="rId3"/>
          <a:srcRect l="52275" t="8888" r="5153" b="16565"/>
          <a:stretch/>
        </p:blipFill>
        <p:spPr>
          <a:xfrm>
            <a:off x="4594320" y="663480"/>
            <a:ext cx="3892320" cy="5112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914400" indent="-4572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1263600" indent="-349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1600200" indent="-336600">
              <a:spcBef>
                <a:spcPts val="2401"/>
              </a:spcBef>
              <a:buClr>
                <a:srgbClr val="a6a6a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946160" indent="-34596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946160" indent="-34596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946160" indent="-345960">
              <a:spcBef>
                <a:spcPts val="240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B8F8-B9F9-420C-B90E-8B9242064E72}" type="slidenum">
              <a:rPr b="0" lang="en-US" sz="14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09640" y="1143000"/>
            <a:ext cx="5724720" cy="23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6633c"/>
                </a:solidFill>
                <a:latin typeface="Calisto MT"/>
              </a:rPr>
              <a:t>Australia’s Most Dangerous Animals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709640" y="3665160"/>
            <a:ext cx="572472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6633c"/>
                </a:solidFill>
                <a:latin typeface="Calisto MT"/>
              </a:rPr>
              <a:t>By Matt Peter</a:t>
            </a:r>
            <a:endParaRPr b="0" lang="en-US" sz="19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Box Jellyfish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211" name="Content Placeholder 3" descr="Box Jellyfish5.jpg"/>
          <p:cNvPicPr/>
          <p:nvPr/>
        </p:nvPicPr>
        <p:blipFill>
          <a:blip r:embed="rId1"/>
          <a:srcRect l="0" t="5390" r="0" b="5390"/>
          <a:stretch/>
        </p:blipFill>
        <p:spPr>
          <a:xfrm>
            <a:off x="725400" y="1587600"/>
            <a:ext cx="7693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Irukanji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213" name="Content Placeholder 3" descr="irukandji-jellyfish-200802.jpg"/>
          <p:cNvPicPr/>
          <p:nvPr/>
        </p:nvPicPr>
        <p:blipFill>
          <a:blip r:embed="rId1"/>
          <a:srcRect l="-1181" t="5843" r="0" b="51101"/>
          <a:stretch/>
        </p:blipFill>
        <p:spPr>
          <a:xfrm>
            <a:off x="725400" y="1623960"/>
            <a:ext cx="7693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3800" y="4952880"/>
            <a:ext cx="809640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8e9d1"/>
                </a:solidFill>
                <a:latin typeface="Calisto MT"/>
              </a:rPr>
              <a:t>Blue Ring Octopus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23800" y="5791320"/>
            <a:ext cx="8096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8e9d1"/>
              </a:solidFill>
              <a:latin typeface="Calisto MT"/>
            </a:endParaRPr>
          </a:p>
        </p:txBody>
      </p:sp>
      <p:pic>
        <p:nvPicPr>
          <p:cNvPr id="216" name="Picture Placeholder 4" descr="610_ag_blue-ringed-octopus.jpg"/>
          <p:cNvPicPr/>
          <p:nvPr/>
        </p:nvPicPr>
        <p:blipFill>
          <a:blip r:embed="rId1"/>
          <a:srcRect l="10824" t="0" r="10824" b="0"/>
          <a:stretch/>
        </p:blipFill>
        <p:spPr>
          <a:xfrm>
            <a:off x="1765440" y="804960"/>
            <a:ext cx="563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Eastern Brown Snake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218" name="Content Placeholder 3" descr="EastBrown2.jpg"/>
          <p:cNvPicPr/>
          <p:nvPr/>
        </p:nvPicPr>
        <p:blipFill>
          <a:blip r:embed="rId1"/>
          <a:srcRect l="0" t="16506" r="0" b="16506"/>
          <a:stretch/>
        </p:blipFill>
        <p:spPr>
          <a:xfrm>
            <a:off x="725400" y="1587600"/>
            <a:ext cx="7693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23800" y="4952880"/>
            <a:ext cx="809640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8e9d1"/>
                </a:solidFill>
                <a:latin typeface="Calisto MT"/>
              </a:rPr>
              <a:t>Saltwater Crocodile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23800" y="5791320"/>
            <a:ext cx="8096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8e9d1"/>
              </a:solidFill>
              <a:latin typeface="Calisto MT"/>
            </a:endParaRPr>
          </a:p>
        </p:txBody>
      </p:sp>
      <p:pic>
        <p:nvPicPr>
          <p:cNvPr id="221" name="Picture Placeholder 4" descr="220px-SaltwaterCrocodile('Maximo').jpg"/>
          <p:cNvPicPr/>
          <p:nvPr/>
        </p:nvPicPr>
        <p:blipFill>
          <a:blip r:embed="rId1"/>
          <a:srcRect l="0" t="6751" r="0" b="6751"/>
          <a:stretch/>
        </p:blipFill>
        <p:spPr>
          <a:xfrm>
            <a:off x="1765440" y="804960"/>
            <a:ext cx="563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25400" y="31392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alisto MT"/>
              </a:rPr>
              <a:t>Platypus</a:t>
            </a:r>
            <a:endParaRPr b="0" lang="en-US" sz="54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223" name="Content Placeholder 4" descr="20070704_platypus.jpg"/>
          <p:cNvPicPr/>
          <p:nvPr/>
        </p:nvPicPr>
        <p:blipFill>
          <a:blip r:embed="rId1"/>
          <a:srcRect l="8665" t="0" r="8665" b="0"/>
          <a:stretch/>
        </p:blipFill>
        <p:spPr>
          <a:xfrm>
            <a:off x="723960" y="1587600"/>
            <a:ext cx="3776760" cy="4583160"/>
          </a:xfrm>
          <a:prstGeom prst="rect">
            <a:avLst/>
          </a:prstGeom>
          <a:ln w="0">
            <a:noFill/>
          </a:ln>
        </p:spPr>
      </p:pic>
      <p:pic>
        <p:nvPicPr>
          <p:cNvPr id="224" name="Content Placeholder 5" descr="14. Platypus.jpg"/>
          <p:cNvPicPr/>
          <p:nvPr/>
        </p:nvPicPr>
        <p:blipFill>
          <a:blip r:embed="rId2"/>
          <a:srcRect l="0" t="-18770" r="0" b="-18770"/>
          <a:stretch/>
        </p:blipFill>
        <p:spPr>
          <a:xfrm>
            <a:off x="4648320" y="1587600"/>
            <a:ext cx="37764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25400" y="601200"/>
            <a:ext cx="76932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Conclusion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25400" y="15876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Depending on where you go you will encounter different kinds of animal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ese animals dangerous but also add to the uniqueness of the world.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457200" indent="-457200">
              <a:spcBef>
                <a:spcPts val="2401"/>
              </a:spcBef>
              <a:buClr>
                <a:srgbClr val="404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t is useful to be aware of what you may encounter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457200" indent="-4572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6:20:35Z</dcterms:created>
  <dc:creator>Thomas Peter</dc:creator>
  <dc:description/>
  <dc:language>en-US</dc:language>
  <cp:lastModifiedBy>Thomas Peter</cp:lastModifiedBy>
  <dcterms:modified xsi:type="dcterms:W3CDTF">2012-06-07T16:42:55Z</dcterms:modified>
  <cp:revision>2</cp:revision>
  <dc:subject/>
  <dc:title>Australia’s Most Dangerous Animals</dc:title>
</cp:coreProperties>
</file>