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68A-91D4-4FE4-84F7-E6BA187A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853-E10E-4F75-A0EE-2878E95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82E-0907-4442-9DA1-61FB989F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0E2-23E5-4F7C-A0C9-744164B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D1C0-EC0C-4731-A20A-377815BB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A642-235B-4AD5-899A-6FAE04F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52C-9157-4C37-B005-729E92F3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7CF3-484B-42E3-826D-79B39556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553F-63C9-419E-8CC3-2A7C77CE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59D5-5740-498F-94F8-271FF845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FED2-FFC0-401C-970B-7B221E1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588-68F2-48CB-B33E-954AA06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ADB5-85E1-4F60-97AD-059A5CB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EFF9-BF8A-4AE4-BD4E-19713EC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EB66-E44B-489A-AEC9-396A087C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4953-20EE-4F52-8AC2-34959057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133-8476-4FB7-825D-246F9AE5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120-0059-4A91-9BF4-215A4035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3FD-3F8C-4B7E-9381-2F2166F6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EB5-6396-4356-A900-3CCB5018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604-FBCA-47ED-8F3E-57739FD9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F61-896C-4064-B220-155D2E9D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E38-E7F3-4D1B-9668-EFDE60BB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078-91F9-4B7B-B706-25E32EA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3C9-B710-473E-8579-E1B909C91194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1C3-3326-4B00-9AF1-1F4B1D2B1303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Ralph Johnst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By: Samantha Nichols 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5" name="Content Placeholder 5" descr="020.JPG"/>
          <p:cNvPicPr/>
          <p:nvPr/>
        </p:nvPicPr>
        <p:blipFill>
          <a:blip r:embed="rId1"/>
          <a:stretch/>
        </p:blipFill>
        <p:spPr>
          <a:xfrm>
            <a:off x="2975040" y="1868400"/>
            <a:ext cx="319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7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9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5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7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2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4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7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46:09Z</dcterms:modified>
  <cp:revision>7</cp:revision>
  <dc:subject/>
  <dc:title>Whitney Houston</dc:title>
</cp:coreProperties>
</file>