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FE9-B9CB-489D-9388-0D4E34CA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6FE-FC7B-4E9F-A8BF-B96E88DE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6FD-1270-40B7-A830-EFAAE3FE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6CE-CDBD-4F57-92CA-D3065E94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69FB-04F7-432E-8C45-ADC34CE3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2A6-3482-4B83-A3C2-BF50C3C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70B0-38AC-49FD-B632-F2D36B1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E7E1-268F-4361-8725-855E640C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778-3DC9-4FE1-AE8B-544EFAB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B4B-9AD9-416A-82CD-F5A63E2F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02FE-3353-4A03-B9D2-2894A98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151-49F9-4AB1-B3FE-AEE12567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5E7B-05B0-4FFF-A6E1-8E44E3D1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BB95-B65E-430D-A454-0A6A43C5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5C4D-4051-407A-B2D5-8727665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35F-AEF8-483D-8719-FFE82501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7F44-33E9-4AB8-A70D-B37BDAB0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16B-3FBD-4E47-A4DC-E59AEDA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72B-408B-4164-9BCD-AEADB09A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E60-D7AB-4FCC-82F5-14064C09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C18-388E-4C22-9959-E819AF2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60B-F811-4AB0-A4E4-CE7C28A6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D85-4E60-4553-A46E-6E53179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7026-3432-40CF-815C-C250E864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AFF-8702-4C1A-8B5E-C1F420F5FE41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1305-8F53-42FF-8A06-A43D1495ACA6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alph Johns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By: Samantha Nichols 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5" name="Content Placeholder 5" descr="020.JPG"/>
          <p:cNvPicPr/>
          <p:nvPr/>
        </p:nvPicPr>
        <p:blipFill>
          <a:blip r:embed="rId1"/>
          <a:stretch/>
        </p:blipFill>
        <p:spPr>
          <a:xfrm>
            <a:off x="2975040" y="1868400"/>
            <a:ext cx="319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7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9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5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7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2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4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7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46:09Z</dcterms:modified>
  <cp:revision>7</cp:revision>
  <dc:subject/>
  <dc:title>Whitney Houston</dc:title>
</cp:coreProperties>
</file>