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69B-3091-4805-8118-5CBA90A5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950-E5B2-494A-BFDF-6A1C1DC0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B2C1-0BD0-45DD-B0B3-0EABF308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DF2-5074-4DF6-817C-8CB4A30F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E81E-6401-42CB-9A76-3FE84C3E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8B25-23C0-4B56-A8D2-4EC740A4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9782-9A1A-477F-AD2D-AA1C7292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DF40-9BC6-42FE-B339-F793413F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5750-B85F-4B26-AFD1-1C810281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BDB4-BF70-4B0B-AC41-3843822A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EB06-4914-4C4B-BE1D-127F1BE4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B0E-658E-44B0-B900-B25EA42A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8FF0-7899-489F-93B4-07007FD2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6514-FCFB-43C7-9655-F600AA9A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FE34-5564-4AA5-A9B6-663CB9B8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D083-E3A7-4946-8EA7-0F18FF55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B4F6-337C-4B23-90DE-29206DA0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B72-2E57-44C5-B81B-E1AA1A4B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FD3-F685-4CB8-B7D5-D9296266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EC2-FFF9-4F5F-8049-73FD4762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7AB-B72F-413E-8503-E9533B22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B71-0EBD-458C-944C-05432A72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44C-24A4-456B-8F06-CF18A906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2AC7-0896-4AAF-8032-D16E47D8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0186-B0B0-427F-9841-8DCB178EBC2A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78588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93704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32BA-852D-4A00-A172-5CAFD34D8C1B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Ralph Johnst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By: Samantha Nichols 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5" name="Content Placeholder 5" descr="020.JPG"/>
          <p:cNvPicPr/>
          <p:nvPr/>
        </p:nvPicPr>
        <p:blipFill>
          <a:blip r:embed="rId1"/>
          <a:stretch/>
        </p:blipFill>
        <p:spPr>
          <a:xfrm>
            <a:off x="2975040" y="1868400"/>
            <a:ext cx="31924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Who was Ralph Johnston?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7" name="Picture 8" descr="C:\Users\hsjohnston\Downloads\grandfather_with_grandson.jpg"/>
          <p:cNvPicPr/>
          <p:nvPr/>
        </p:nvPicPr>
        <p:blipFill>
          <a:blip r:embed="rId1"/>
          <a:stretch/>
        </p:blipFill>
        <p:spPr>
          <a:xfrm>
            <a:off x="1590840" y="1581120"/>
            <a:ext cx="2492280" cy="1636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85800" y="1760040"/>
            <a:ext cx="3611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9" name="Picture 9" descr="C:\Users\hsjohnston\Downloads\Father-son.jpg"/>
          <p:cNvPicPr/>
          <p:nvPr/>
        </p:nvPicPr>
        <p:blipFill>
          <a:blip r:embed="rId7"/>
          <a:stretch/>
        </p:blipFill>
        <p:spPr>
          <a:xfrm>
            <a:off x="1406520" y="3413160"/>
            <a:ext cx="2676600" cy="271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C:\Users\hsjohnston\Downloads\Navy-Seal.jpg"/>
          <p:cNvPicPr/>
          <p:nvPr/>
        </p:nvPicPr>
        <p:blipFill>
          <a:blip r:embed="rId8"/>
          <a:stretch/>
        </p:blipFill>
        <p:spPr>
          <a:xfrm>
            <a:off x="4844880" y="2797200"/>
            <a:ext cx="36118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Life as a Child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Born on March 16,1940 in Boston, Massachusetts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as a son of Doris &amp; Ralph Johnsto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as a loving brother to Betty Lou, Mary, Richard and Hele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began working on a farm, and helping his mother cook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s is how his love for food made him want to become a chief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Norwich State Hospital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06520" y="5843520"/>
            <a:ext cx="71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Where he worked as head chef along side of his best friend Nelson Provost 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5" name="Picture 4" descr="C:\Users\hsjohnston\Downloads\salmon.jpg"/>
          <p:cNvPicPr/>
          <p:nvPr/>
        </p:nvPicPr>
        <p:blipFill>
          <a:blip r:embed="rId1"/>
          <a:stretch/>
        </p:blipFill>
        <p:spPr>
          <a:xfrm>
            <a:off x="2268360" y="1893960"/>
            <a:ext cx="4535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My favorite Meal by Poppy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7" name="Picture 8" descr="C:\Users\hsjohnston\Downloads\thumb_COLOURBOX1737533.jpg"/>
          <p:cNvPicPr/>
          <p:nvPr/>
        </p:nvPicPr>
        <p:blipFill>
          <a:blip r:embed="rId1"/>
          <a:stretch/>
        </p:blipFill>
        <p:spPr>
          <a:xfrm>
            <a:off x="685800" y="1479600"/>
            <a:ext cx="2468520" cy="2368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:\Users\hsjohnston\Downloads\143-meatballs.JPG"/>
          <p:cNvPicPr/>
          <p:nvPr/>
        </p:nvPicPr>
        <p:blipFill>
          <a:blip r:embed="rId2"/>
          <a:stretch/>
        </p:blipFill>
        <p:spPr>
          <a:xfrm>
            <a:off x="5346720" y="1871640"/>
            <a:ext cx="2630520" cy="197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Users\hsjohnston\Downloads\sauce.jpg"/>
          <p:cNvPicPr/>
          <p:nvPr/>
        </p:nvPicPr>
        <p:blipFill>
          <a:blip r:embed="rId3"/>
          <a:stretch/>
        </p:blipFill>
        <p:spPr>
          <a:xfrm>
            <a:off x="3154320" y="4281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Youzer- Bowzer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868400"/>
            <a:ext cx="777096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made up his own words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s word meant anything from thank you to yes I am done listening to you and I'm cutting you off.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was also loved his western movies with John Wayne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2" name="Picture 2" descr="C:\Users\hsjohnston\Downloads\languages.jpg"/>
          <p:cNvPicPr/>
          <p:nvPr/>
        </p:nvPicPr>
        <p:blipFill>
          <a:blip r:embed="rId4"/>
          <a:stretch/>
        </p:blipFill>
        <p:spPr>
          <a:xfrm>
            <a:off x="6143760" y="4165560"/>
            <a:ext cx="25336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John Wayne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4" name="Picture 2" descr="C:\Users\hsjohnston\Downloads\john-wayne.jpg"/>
          <p:cNvPicPr/>
          <p:nvPr/>
        </p:nvPicPr>
        <p:blipFill>
          <a:blip r:embed="rId1"/>
          <a:stretch/>
        </p:blipFill>
        <p:spPr>
          <a:xfrm>
            <a:off x="1011240" y="1800360"/>
            <a:ext cx="2962440" cy="4286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hsjohnston\Downloads\24367_john-wayne-triple.jpg"/>
          <p:cNvPicPr/>
          <p:nvPr/>
        </p:nvPicPr>
        <p:blipFill>
          <a:blip r:embed="rId2"/>
          <a:stretch/>
        </p:blipFill>
        <p:spPr>
          <a:xfrm>
            <a:off x="4844880" y="2682720"/>
            <a:ext cx="3611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Things He Has Taught Me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7" name="Picture 2" descr="C:\Users\hsjohnston\Downloads\tie a shoe.jpg"/>
          <p:cNvPicPr/>
          <p:nvPr/>
        </p:nvPicPr>
        <p:blipFill>
          <a:blip r:embed="rId1"/>
          <a:stretch/>
        </p:blipFill>
        <p:spPr>
          <a:xfrm>
            <a:off x="685800" y="3800520"/>
            <a:ext cx="3611520" cy="270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hsjohnston\Downloads\01.jpg"/>
          <p:cNvPicPr/>
          <p:nvPr/>
        </p:nvPicPr>
        <p:blipFill>
          <a:blip r:embed="rId2"/>
          <a:stretch/>
        </p:blipFill>
        <p:spPr>
          <a:xfrm>
            <a:off x="4935600" y="22287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hsjohnston\Downloads\IMG_0050.JPG"/>
          <p:cNvPicPr/>
          <p:nvPr/>
        </p:nvPicPr>
        <p:blipFill>
          <a:blip r:embed="rId3"/>
          <a:stretch/>
        </p:blipFill>
        <p:spPr>
          <a:xfrm>
            <a:off x="996840" y="1332000"/>
            <a:ext cx="28623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onclusion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You have been a role model to so many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I wanted to say “Thank You” for everything that you have done for me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has not only been my grandfather, but a father figure for me, he is one of the best chef’s around Norwich, and should be remembered for all his accomplishments not for his death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May you rest in peace and one day we will all be reunited in the afterlife.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6:22:32Z</dcterms:created>
  <dc:creator>Kayla Johnson</dc:creator>
  <dc:description/>
  <dc:language>en-US</dc:language>
  <cp:lastModifiedBy>hsjohnston</cp:lastModifiedBy>
  <dcterms:modified xsi:type="dcterms:W3CDTF">2012-06-08T10:46:09Z</dcterms:modified>
  <cp:revision>7</cp:revision>
  <dc:subject/>
  <dc:title>Whitney Houston</dc:title>
</cp:coreProperties>
</file>