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C4E-B5E4-4DDC-AE6A-AD09D85A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947-B99B-481C-AA9D-FDEBE457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825-21D8-488A-A96A-9A7558E3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886-8D40-4C34-B249-7659CE6A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BE2-5B6F-4D4F-B963-38928B89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E6DF-A14C-4E3A-93BC-505B34F7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6605-002E-44C7-9BD0-A3F1667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57A-B81E-4497-83C9-223E0CB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DDCD-F929-479B-969A-971EF3D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60E5-DE24-4CF6-884B-67C165F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28C-5E00-4F68-ACA7-6090CCA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69B-6B75-4802-9496-2F31855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960-3320-48E8-BC3B-6AFF5ED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568-CC45-439C-9D87-2C791F4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863B-5BD7-4340-B9FC-0CC8F24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6BF1-4409-4C50-BD15-C2FE19A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5FD5-6F97-48A5-B539-73B6993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6C5-3D1B-43A0-8B44-2C742A2B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DAF-C600-4E09-9F03-3C7C0E27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D49-57A8-4C2B-84DE-0A78C90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F4B-FC6D-4FBA-88B4-EDF1CB35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6AE-A2A2-46DA-8952-BE2DEB8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580-2575-4CFD-8155-AED729C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D07-D418-4C01-97AE-C3E11FA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D92-281C-4EC2-AAF7-DAC44D277D17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8395-D4C3-4338-B36C-C3761E056EFE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alph Johns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By: Samantha Nichols 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5" name="Content Placeholder 5" descr="020.JPG"/>
          <p:cNvPicPr/>
          <p:nvPr/>
        </p:nvPicPr>
        <p:blipFill>
          <a:blip r:embed="rId1"/>
          <a:stretch/>
        </p:blipFill>
        <p:spPr>
          <a:xfrm>
            <a:off x="2975040" y="1868400"/>
            <a:ext cx="319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7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9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5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7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2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4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7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46:09Z</dcterms:modified>
  <cp:revision>7</cp:revision>
  <dc:subject/>
  <dc:title>Whitney Houston</dc:title>
</cp:coreProperties>
</file>