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FE88-3EE6-47D9-AE4A-5941DB3E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1DB0-DE8D-4AB8-80BD-3BA4F53B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3E5E-EF97-4378-A1AA-42BC3C671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8DFF-2C98-4043-8E83-A75A0829C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78D4-63EA-4BF1-980F-7C6A7522F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D50A-0465-4AEE-AA35-46A1C04C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6D99-BADF-4FBF-B239-71159170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EA56-FAA9-4ACB-9792-79294A59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290F-637F-442E-BE41-847D6EAD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F81D-1B1D-48E5-907D-3CA9277B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33CF-0E40-4F35-8439-A3BCED4A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6F5F-CEB7-480F-B128-94DD4317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0662-0EE5-4662-89D3-F00C7F1B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C39D-71FC-442C-8FA8-646A0A78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A0E3-A676-4743-BAD6-34D06B33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3D8F-9FD8-4A1B-854D-B5908BA84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450E-D041-4FCA-B66E-27EB77D18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4222-5D7C-45E3-9FED-2F9E5196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DE60-EC21-4D7D-853A-0E895607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3D0F-035C-43BF-81BD-4E0EDB27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F938-CC10-44C0-B987-1BABC97B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66B2-0B28-4806-B343-52515785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03C3-E2C7-4BAD-B801-91ADC6CE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A22F-0934-4B54-A3F8-7ABF2B1E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3186-466A-4877-850B-A5F352134A2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DA40-92E5-4818-8A37-37DE0A4897C4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y Train Ride to English Teaching in Japa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" y="3276720"/>
            <a:ext cx="3429000" cy="22780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191120" y="3276720"/>
            <a:ext cx="3124080" cy="228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olleg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3927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ajor in English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inor in Japanes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ree Rivers Community Colleg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entral Connecticut State Universit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tudy abroad: Kansai Gaidai Universit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4267080" y="2514600"/>
            <a:ext cx="3581640" cy="255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areer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9276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Learn every moment of every da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akes one want to improve themselv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240 days to attend schoo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round 8:30-3:0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National Pension Servic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4419720" y="1905120"/>
            <a:ext cx="32446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Financ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3886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llege cost: $63,334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$1,392 for TRCC book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$30,000 a year for caree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Japan expenses: $19,586.88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$10,413 of extra money to spend yearly in Japa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4495680" y="2057400"/>
            <a:ext cx="30481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590920" y="22860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590920" y="2590920"/>
            <a:ext cx="2666880" cy="17859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2590920" y="4800600"/>
            <a:ext cx="2743200" cy="1838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8T00:12:52Z</dcterms:created>
  <dc:creator>Dell</dc:creator>
  <dc:description/>
  <dc:language>en-US</dc:language>
  <cp:lastModifiedBy>Dell</cp:lastModifiedBy>
  <dcterms:modified xsi:type="dcterms:W3CDTF">2014-04-08T01:07:04Z</dcterms:modified>
  <cp:revision>5</cp:revision>
  <dc:subject/>
  <dc:title>My Train Ride to English Teaching in Japan</dc:title>
</cp:coreProperties>
</file>