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302-7AA8-46FD-ABA4-67A4B92A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52B-F43A-4AEF-9026-6375214B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328-298B-42E0-A97C-834040F0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31C-9AAA-49AB-A431-04B85A77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8D3E-7787-48C3-9B12-9C75D0E6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825B-AE86-4C1E-9B6C-AFCE9DAE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238E-C5CC-499B-99D6-5EF98954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1FC4-70BC-40A3-80DA-92022093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1E7F-7C15-4F64-9F78-70F915F8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381C-2B2E-41B2-B2F2-27B96C44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E543-69CD-4F0B-884A-FC68A6C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2FE-82E1-4F51-847F-9577ED6C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3F59-DCD2-42E6-AB8C-95018D2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1742-3314-4355-B491-24F66E0E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0858-B146-4AD3-A63D-89B3E60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3C63-2F9C-4093-A7AC-97BEDEFB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A8B2-518A-40B6-B68E-2063F323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D42-70CD-4AEC-A225-6A81E4D6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FBB-EFDC-4D69-BF57-B6159828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825-2EC2-49D2-BC47-9CC1E992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25C-A4DE-4226-9962-705F58BD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230-9CFE-457A-8584-10689378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6BB-5583-45FF-A858-55F39B79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FB6-77F1-423D-80A6-8A29A87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0BC1-19B4-4906-A80F-3E643A0F2FC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470B-EE22-452C-B49F-805F538452A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Train Ride to English Teaching in Japa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3429000" cy="2278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3124080" cy="22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le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927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jor in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nor in Japane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ree Rivers Community Colle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entral Connecticut State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udy abroad: Kansai Gaidai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267080" y="2514600"/>
            <a:ext cx="35816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are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927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rn every moment of every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kes one want to improve themselv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40 days to attend scho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ound 8:30-3: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tional Pension Serv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419720" y="1905120"/>
            <a:ext cx="3244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88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llege cost: $63,334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,392 for TRCC boo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30,000 a year for care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apan expenses: $19,586.88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0,413 of extra money to spend yearly in Jap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4495680" y="205740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90920" y="480060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00:12:52Z</dcterms:created>
  <dc:creator>Dell</dc:creator>
  <dc:description/>
  <dc:language>en-US</dc:language>
  <cp:lastModifiedBy>Dell</cp:lastModifiedBy>
  <dcterms:modified xsi:type="dcterms:W3CDTF">2014-04-08T01:07:04Z</dcterms:modified>
  <cp:revision>5</cp:revision>
  <dc:subject/>
  <dc:title>My Train Ride to English Teaching in Japan</dc:title>
</cp:coreProperties>
</file>