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830-13D5-4DD8-9822-D6B72D46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90A-BC25-4062-8C9B-985574DE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891-C746-441F-A6B7-0FFDE10E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2B8-7BA0-4F1F-BFEE-22938AF3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83D-F183-4C98-96BE-7BB2F5C5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4C1-A626-4826-ADC1-85AE789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687-C002-4944-97C9-22C39984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BD9-6BC4-4F2E-ACEC-3E2358C1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17D-655F-49A9-9250-6EEC027C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4A2-E378-4344-85AE-E00C6EDB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5EB-1720-4259-B7A5-0CBEA6C6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9B3-6E03-45B1-8056-D12A81D9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7286-B617-4443-9CA0-7289C936A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The Theory of Cognitiv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87656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ensorimotor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irth to two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is known through movement and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ven though certain things can not be seen, they still ex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parate existence from people an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tions cause things to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arning occurs through assimilation and 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re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two to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presentation of objects through words and pictures/symbol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e things through own point of view/ego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uggle seeing things from the perspective of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tter language and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ncrete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seven to 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gical thinking about soli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f you take two pieces of string that are the same length and scrunch one up, a child will reply that the scrunched one is shorter, if conservation hasn't yet been reached”- psychology lecturer of Wigan and Leigh College, Saul McLe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re organized and logical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ductiv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al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twelve an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asoning about hypothetic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strac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oughts become more moral, philosophical, ethical, and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litical issues require theoretical and abstract reas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ductiv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21:41:54Z</dcterms:created>
  <dc:creator>Dell</dc:creator>
  <dc:description/>
  <dc:language>en-US</dc:language>
  <cp:lastModifiedBy>Dell</cp:lastModifiedBy>
  <dcterms:modified xsi:type="dcterms:W3CDTF">2014-01-20T20:51:52Z</dcterms:modified>
  <cp:revision>14</cp:revision>
  <dc:subject/>
  <dc:title>Slide 1</dc:title>
</cp:coreProperties>
</file>