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0.jpeg" ContentType="image/jpe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829E-8599-482E-88CF-060C6F268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52B4-1BF2-438E-A4C3-3321DDD4B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E8DD-A73A-401E-A907-3DC8775C4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1C68-B0AE-4612-9A6D-2DA9563CB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93B9C-395A-471E-8647-A9578EFDF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13414-233E-45CA-9413-0FCB64E45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0CEFA-D9BF-412A-AB75-6461DE37E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F3F1F-EFE8-4C2D-94D6-52CD244A5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53FE5-671C-4041-8988-979C57412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FA845-BA01-4D67-AD96-5A48A37E6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C10F8-CD89-4FF3-930C-9221619B5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BD39-1C8D-4CCD-9437-4806A6076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E8144-A5F8-4D17-B87E-08E503B11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759EC-C5FC-453D-8945-0E8910397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55519-D774-4C57-B420-DDA124946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FD8FE-D0EE-4ABA-A3D9-7EA2D15CA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2A96E-84D8-46A6-B043-FC1E1906F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B31E-EA74-4E5D-B52D-4C7BC33DD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303C-5D7E-492E-8773-EFCDE3810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4471-7EA4-4466-B14C-6FCD7639C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2B51-CD15-4653-B0BC-8728FEFAC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8F0D-EB43-487F-B88D-45A3A0F49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585F-D7F9-4A53-A7E2-54423DA3D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D2EE-E9FB-4280-91FE-BD3657083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85E64-F56B-4E7A-ACBC-8D9FE114326E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20F8D-C98A-45E8-8ABD-E74F8C43F074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My Train Ride to English Teaching in Japan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457200" y="3276720"/>
            <a:ext cx="3429000" cy="227808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4191120" y="3276720"/>
            <a:ext cx="3124080" cy="228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olleg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39276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Major in English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Minor in Japanes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Three Rivers Community Colleg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Central Connecticut State University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tudy abroad: Kansai Gaidai University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6"/>
          <a:stretch/>
        </p:blipFill>
        <p:spPr>
          <a:xfrm>
            <a:off x="4267080" y="2514600"/>
            <a:ext cx="3581640" cy="255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areer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9276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Learn every moment of every day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Makes one want to improve themselve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240 days to attend schoo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Around 8:30-3:00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National Pension Servic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6"/>
          <a:stretch/>
        </p:blipFill>
        <p:spPr>
          <a:xfrm>
            <a:off x="4419720" y="1905120"/>
            <a:ext cx="3244680" cy="358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Finance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38862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College cost: $63,334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$1,392 for TRCC book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$30,000 a year for career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Japan expenses: $19,586.88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$10,413 of extra money to spend yearly in Japan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6"/>
          <a:stretch/>
        </p:blipFill>
        <p:spPr>
          <a:xfrm>
            <a:off x="4495680" y="2057400"/>
            <a:ext cx="304812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2590920" y="228600"/>
            <a:ext cx="2666880" cy="20001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2590920" y="2590920"/>
            <a:ext cx="2666880" cy="178596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3"/>
          <a:stretch/>
        </p:blipFill>
        <p:spPr>
          <a:xfrm>
            <a:off x="2590920" y="4800600"/>
            <a:ext cx="2743200" cy="1838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08T00:12:52Z</dcterms:created>
  <dc:creator>Dell</dc:creator>
  <dc:description/>
  <dc:language>en-US</dc:language>
  <cp:lastModifiedBy>Dell</cp:lastModifiedBy>
  <dcterms:modified xsi:type="dcterms:W3CDTF">2014-04-08T01:07:04Z</dcterms:modified>
  <cp:revision>5</cp:revision>
  <dc:subject/>
  <dc:title>My Train Ride to English Teaching in Japan</dc:title>
</cp:coreProperties>
</file>