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26B-7D77-45C1-A4DD-1AD03D2B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922-57FD-407D-8B20-7474D840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475-64D2-4D0D-AE25-48871881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90D-E4BB-4FFC-B953-1BAC35C2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DD3C-A813-4FC9-9E5E-C237D6F6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9A1D-3F70-4DD4-8891-E6503786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4A5E-5846-4D25-8B55-A35C93FD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DA36-8384-45BF-BC4C-C5EE4E8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8F55-8FE5-4957-BE20-4A55AA9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189D-0D07-487C-82CA-9BD55E6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05BF-984D-493C-AD63-4C4C96F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43-D76C-436E-BF74-8B87AA5C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2E4C-B357-42D5-A2F4-CA69489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38E-F0CC-43BF-BB3F-C0D710F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BF6B-A749-43F2-87B7-0A5DB2C1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2AD3-689A-4D1A-9052-D9A60FD6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AE16-8653-4EE8-8034-BBA4164B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938-E362-4CB0-B501-8E53315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177-B729-4870-8013-C58F90BA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09A-8080-4440-839A-167B1CF5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721-6C0E-41AD-8E24-83964091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546-762F-4CB2-86DE-8A853E4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731-F8F0-4023-B6D2-E2653DD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277-0AFF-43CC-805B-A26D1B2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7A6-C776-400B-AF30-6981DC82B58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0F84-6BCF-4C24-A4C8-475CC5C21A4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Train Ride to English Teaching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12408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le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927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jor in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nor in Japane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e Rivers Community Colle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 Connecticut State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abroad: Kansai Gaidai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267080" y="2514600"/>
            <a:ext cx="35816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are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927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every moment of every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kes one want to improve themselv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0 days to attend 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ound 8:30-3: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ional Pension Serv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419720" y="1905120"/>
            <a:ext cx="3244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llege cost: $63,334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,392 for TRCC boo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30,000 a year for care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pan expenses: $19,586.8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0,413 of extra money to spend yearly in Jap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495680" y="205740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0:12:52Z</dcterms:created>
  <dc:creator>Dell</dc:creator>
  <dc:description/>
  <dc:language>en-US</dc:language>
  <cp:lastModifiedBy>Dell</cp:lastModifiedBy>
  <dcterms:modified xsi:type="dcterms:W3CDTF">2014-04-08T01:07:04Z</dcterms:modified>
  <cp:revision>5</cp:revision>
  <dc:subject/>
  <dc:title>My Train Ride to English Teaching in Japan</dc:title>
</cp:coreProperties>
</file>