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A3E7-5D6F-4BF7-B15B-5C21EEDC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18F-966A-4849-B9A2-962D9135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250E-02B4-47F4-9DD5-99F001C55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C56D-8F7C-4464-A0BA-7514B735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5F9F-7F6E-4E8D-8087-503B5F4C0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C691-3045-4DDB-B4D5-01B95191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B45B-0E4D-446D-863B-C072317D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8F76-DDE8-4941-80DC-02754025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8E14-57F1-4788-A51E-B74326CD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D335-3415-4C73-B8B0-A30074E8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87E5-6CD5-477D-9B80-5002B0DF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01A8-C342-4A75-A4CC-92682C4C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275D-8BFF-4A82-A8AE-3E4FF7A3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7249-ECA4-49A6-9E2F-AC85D656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334E-5DEC-48B1-8689-08379049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7D9F-2DBB-44CB-AAFE-67F21ED1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C838-4220-4DBB-8E5A-4C148EA8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C772-BD1C-4F7A-A30F-EE20068D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D605-99A4-4D40-BC31-AFF13F31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10FE-0C80-441F-9F59-B3D0A546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CCDF-D386-4655-AA32-6A45790E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BD4A-B381-458A-9265-7E5F0BAC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AA17-83DA-4317-A40C-44547022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332E-080F-4E14-A8E8-EEA01DE6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B04C-3B80-4354-B3B9-82434D07A6B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7ED1-0246-4733-B003-C96C85D2815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y Train Ride to English Teaching in Japa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3429000" cy="2278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191120" y="3276720"/>
            <a:ext cx="3124080" cy="22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lleg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3927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jor in English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inor in Japanes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ree Rivers Community Colleg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entral Connecticut State Universi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tudy abroad: Kansai Gaidai Universi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4267080" y="2514600"/>
            <a:ext cx="3581640" cy="25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aree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9276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earn every moment of every da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kes one want to improve themselv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40 days to attend schoo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round 8:30-3:0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ational Pension Servi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4419720" y="1905120"/>
            <a:ext cx="32446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inanc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3886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llege cost: $63,334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$1,392 for TRCC book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$30,000 a year for care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Japan expenses: $19,586.88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$10,413 of extra money to spend yearly in Japa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4495680" y="2057400"/>
            <a:ext cx="30481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590920" y="2590920"/>
            <a:ext cx="2666880" cy="17859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590920" y="4800600"/>
            <a:ext cx="2743200" cy="183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8T00:12:52Z</dcterms:created>
  <dc:creator>Dell</dc:creator>
  <dc:description/>
  <dc:language>en-US</dc:language>
  <cp:lastModifiedBy>Dell</cp:lastModifiedBy>
  <dcterms:modified xsi:type="dcterms:W3CDTF">2014-04-08T01:07:04Z</dcterms:modified>
  <cp:revision>5</cp:revision>
  <dc:subject/>
  <dc:title>My Train Ride to English Teaching in Japan</dc:title>
</cp:coreProperties>
</file>