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B6D4-2088-4F17-B2CF-5127D318B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BA2A-7E7F-4C57-93F8-8D72D0C3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11AD-C47D-41B7-8BFC-A52292BF3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5406-2BE6-405B-AE84-3E44F084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7F28-68C4-4569-8BF0-7D30444DD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11EB-05A8-4359-B2A9-66CCDA24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9B2C-BB0D-4780-A666-C2065AA4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F48C-B681-4EBE-AD71-17D9F92F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D3FC-A2D2-48AB-BBA1-52A18D12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BF74-384A-4D52-A5CC-517B3171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A729-8F70-4484-87F6-B7E1ACA0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A17A-4718-4863-BC42-676E7F44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EB2C-7428-4A0E-9F63-7D849C57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C945-B341-4AE0-95B8-E153E100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9F77-A6AB-4ECB-A518-AE1F589E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A2C7-7BD6-49A6-B8E2-BC687CB99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E2C6-2F82-49CF-A91C-2DF71345F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027C-E9F1-4AA3-A103-99F388FD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4E44-FA40-487D-A3F8-1C1B96AA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A4AF-702C-4B59-B066-4DFB05C2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B51E-40DA-43D8-B8D0-70B2A427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B565-087E-4AFF-8D36-71460F80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5A8C-E366-4A47-9AAC-775A3D0C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F1B5-8900-41AA-A33A-5DAC25E7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A8EF-504C-43E7-A4EE-0EDE6848B48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BEF6-9741-4920-B782-226E7D1EAD5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y Train Ride to English Teaching in Japa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3429000" cy="22780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191120" y="3276720"/>
            <a:ext cx="3124080" cy="22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olleg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3927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ajor in English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inor in Japanes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ree Rivers Community Colleg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entral Connecticut State Universit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tudy abroad: Kansai Gaidai Universit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4267080" y="2514600"/>
            <a:ext cx="3581640" cy="25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areer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9276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earn every moment of every da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akes one want to improve themselv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40 days to attend schoo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round 8:30-3:0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ational Pension Servic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4419720" y="1905120"/>
            <a:ext cx="32446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inanc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3886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llege cost: $63,334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$1,392 for TRCC book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$30,000 a year for care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Japan expenses: $19,586.88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$10,413 of extra money to spend yearly in Japa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4495680" y="2057400"/>
            <a:ext cx="30481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590920" y="22860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590920" y="2590920"/>
            <a:ext cx="2666880" cy="17859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2590920" y="4800600"/>
            <a:ext cx="2743200" cy="1838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8T00:12:52Z</dcterms:created>
  <dc:creator>Dell</dc:creator>
  <dc:description/>
  <dc:language>en-US</dc:language>
  <cp:lastModifiedBy>Dell</cp:lastModifiedBy>
  <dcterms:modified xsi:type="dcterms:W3CDTF">2014-04-08T01:07:04Z</dcterms:modified>
  <cp:revision>5</cp:revision>
  <dc:subject/>
  <dc:title>My Train Ride to English Teaching in Japan</dc:title>
</cp:coreProperties>
</file>