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1C2-1DC3-4394-B22A-357ED187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693-2878-4699-87A2-85193C1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963-888A-474F-A4D5-7CCEA9CC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3EA-6186-4F45-9194-22A3DA32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E50-63E8-404C-AF6F-9415BECA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237-1E85-42F2-BAAD-4AB0CDC5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681-7B6C-4858-8E2A-45407F74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282-E9AF-4001-8637-2D2D69DF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B06-AB3B-492B-A250-F9E21183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220-7632-404A-B90C-09E78825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770-4CBE-43B7-9ECE-4FB04786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8E1-A991-4A6A-94B0-3CFB187D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65D5-4D48-4A9C-976E-FD54FC5D1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The Theory of Cognitiv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8765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ensorimotor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irth to two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is known through movement and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ven though certain things can not be seen, they still ex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parate existence from people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tions cause things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arning occurs through assimilation and 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e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o to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presentation of objects through words and pictures/symbol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e things through own point of view/ego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uggle seeing things from the perspective of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tter language and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ncrete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seven to 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gical thinking about soli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take two pieces of string that are the same length and scrunch one up, a child will reply that the scrunched one is shorter, if conservation hasn't yet been reached”- psychology lecturer of Wigan and Leigh College, Saul McLe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re organized and logical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al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elve an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asoning about hypothetic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strac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oughts become more moral, philosophical, ethical, and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litical issues require theoretical and abstract reas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21:41:54Z</dcterms:created>
  <dc:creator>Dell</dc:creator>
  <dc:description/>
  <dc:language>en-US</dc:language>
  <cp:lastModifiedBy>Dell</cp:lastModifiedBy>
  <dcterms:modified xsi:type="dcterms:W3CDTF">2014-01-20T20:51:52Z</dcterms:modified>
  <cp:revision>14</cp:revision>
  <dc:subject/>
  <dc:title>Slide 1</dc:title>
</cp:coreProperties>
</file>