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A5A-4B4A-424F-B915-7FE7B431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5E1-6D6D-42A8-82EE-AAD85D22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3CE-B72E-4D32-B9E2-29661C49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A2A-8B9D-4109-B7FB-66B17930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42C-69A4-4473-A431-CD5BCCA9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125-1DED-4CEE-829A-BF1D3D0E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15F-C0C4-44CC-A963-BEF6E816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636-44C4-4034-898C-D9D55944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8E1-DA5B-4028-B011-1BC84890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B58-9833-4306-86A1-D19EDB3E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C52-FBA8-491E-9AA3-3757C73E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D820-3B03-4271-9DAE-46028D8F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10F8-96AE-4A5B-91BF-A41A1A57A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The Theory of Cognitiv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87656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ensorimotor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irth to two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is known through movement and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ven though certain things can not be seen, they still ex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parate existence from people an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tions cause things to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arning occurs through assimilation and accommo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re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two to 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presentation of objects through words and pictures/symbolic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e things through own point of view/egocen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ruggle seeing things from the perspective of ot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tter language and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ncrete 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seven to e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gical thinking about soli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f you take two pieces of string that are the same length and scrunch one up, a child will reply that the scrunched one is shorter, if conservation hasn't yet been reached”- psychology lecturer of Wigan and Leigh College, Saul McLe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re organized and logical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ductiv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ormal 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twelve an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asoning about hypothetic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stract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oughts become more moral, philosophical, ethical, and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litical issues require theoretical and abstract reaso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ductiv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625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21:41:54Z</dcterms:created>
  <dc:creator>Dell</dc:creator>
  <dc:description/>
  <dc:language>en-US</dc:language>
  <cp:lastModifiedBy>Dell</cp:lastModifiedBy>
  <dcterms:modified xsi:type="dcterms:W3CDTF">2014-01-20T20:51:52Z</dcterms:modified>
  <cp:revision>14</cp:revision>
  <dc:subject/>
  <dc:title>Slide 1</dc:title>
</cp:coreProperties>
</file>