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B58-B8AE-4839-858A-0754C470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EB0-3565-45BE-AF8B-04DDA8E3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BA2-1058-4F4D-81EB-85D45B9E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B68-243E-4175-98ED-568F072F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EE9-72CF-494A-AD30-B73DA9F0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2B0-899C-4727-B9F4-E3CE6F02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A77-2200-483E-9F95-F18AB622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051-9083-44F8-8145-6BF186C8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867-DF4B-4325-8CD2-E560FBFC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493-2467-4EF6-B6C6-5E34399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A5F-894D-42E0-AF5B-BDB04E6C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322-4C12-40C5-9845-2D9CACF7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C6C2-01EA-4A83-A6C2-66361D340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e Theory of Cognitiv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8765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ensorimot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rth to two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is known through movement and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ven though certain things can not be seen, they still ex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parate existence from people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tions cause things to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arning occurs through assimilation and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e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o to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presentation of objects through words and pictures/symbol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e things through own point of view/ego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uggle seeing things from the perspective of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tter language and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ncrete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seven to 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gical thinking about soli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you take two pieces of string that are the same length and scrunch one up, a child will reply that the scrunched one is shorter, if conservation hasn't yet been reached”- psychology lecturer of Wigan and Leigh College, Saul McLe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re organized and logical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al Operationa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e twelve an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soning about hypothet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strac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oughts become more moral, philosophical, ethical, an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litical issues require theoretical and abstract reas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ductiv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21:41:54Z</dcterms:created>
  <dc:creator>Dell</dc:creator>
  <dc:description/>
  <dc:language>en-US</dc:language>
  <cp:lastModifiedBy>Dell</cp:lastModifiedBy>
  <dcterms:modified xsi:type="dcterms:W3CDTF">2014-01-20T20:51:52Z</dcterms:modified>
  <cp:revision>14</cp:revision>
  <dc:subject/>
  <dc:title>Slide 1</dc:title>
</cp:coreProperties>
</file>