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E57-58F4-4702-BC6B-E436B193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28C-CFB4-45BD-828F-4445BF72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463-2A86-441D-AF6B-18FA56EF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A9D-2820-4B56-B324-39147523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D76C-424D-4FD0-9EB6-B4F0E7F2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6FE9-9063-43F0-AB81-05D145E8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49FD-DF18-4443-887D-DDB3DC8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32C3-F940-4135-8DC3-4F4C096B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070B-D789-4FD4-8652-B2A712CE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1630-9A1E-4670-9E1F-6D35CBDC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91FD-1C7D-4199-8C5A-5A03F91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295-FF07-40D5-9E3E-088081CF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E9A0-6844-46B3-BB1A-EEE19DF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1B01-174D-4294-99ED-E8E0F100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01B1-DDEA-4C7A-B560-1B584DBB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E4BA-C770-4F7C-A667-4D3EA2C3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E818-F85F-464F-B1D2-BE528BD9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0524-1B56-4D85-9AFC-BCCF45D6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6BE9-FA25-4FEE-8FB0-CA6F874A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F86D-7A97-4582-B49D-5908073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94CE-E64D-4803-843D-304E530B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B9C9-EDAD-496C-9D9B-62930C57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93D-6D45-4478-B3D2-0215FE52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D006-0E22-418B-A7E1-71695D69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5859-E5FF-4F86-BE88-7DF0725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ACB6-C4E9-4B68-B335-F3857042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D2FF-A659-4D38-8AFD-0BE02CE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FFC8-B29F-42F8-897D-4129DE2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2BC2D-B0B8-4C43-9C84-EC225CB8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8A9A-D234-4D55-AB4E-A520FC69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860C-3B35-42A8-9173-DE200B93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3D43-913D-4FB2-A981-297D17CD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B914-161E-4978-89E0-4BF3B639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6BB-5091-4C69-89D7-756F56C4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F814-6B09-4575-87F5-9946B1E4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82F5-E277-466B-ACC6-19C78180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75221-7AF5-446E-9A36-5D82EBFA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71B7-2A11-41D7-A129-9B78A053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0FD1-19BD-4180-A7B0-0E4C3927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8600-B089-4029-B313-B12F34B3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2A7C-AA2D-482D-A16E-6B3811A8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D8201-6CA7-462B-89C9-43FB2D56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8DA6-D85E-43A6-8570-FA554659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F8C2F-70CB-4143-A14E-2AD09E0A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8FB-6BA6-4517-836A-C243E0D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177A0-35AE-4A15-BA82-941DABF6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0AE14-5DBE-433C-B3C9-74097802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D4BF-07ED-4D0F-ABDA-B80A6312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D8A3C-7571-4E41-BB11-4A40FE1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30BB-8B36-468E-B31D-4E9A593D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E91C-F527-4413-A1F8-4A7862E5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07C85-4303-4C11-9B5B-DBF19C5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1E22-AEE0-4CC8-AB6A-C851EAA0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C7CE7-2D52-4299-BC36-D96DF932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8176E-8FB0-424F-9710-2CB35BC9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8EE-F2F3-4AA3-84D6-12A93607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8883-B4F9-45F4-BF86-3BAB1434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5C44F-6636-49E0-B17C-5C93A89B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AACAE-B97D-4EB9-B514-21FC00A8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7D5FD-B5E5-4C66-A289-0D0E05D1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D09A1-F40A-4FE6-BD92-40B4C812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8802-EBCE-424E-A10F-626206A4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23919-64A1-42BC-A3BD-636E5144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3207A-B807-4314-A2B3-A24D60F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EDE5-D76D-4332-9662-104163A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2CEC-E1C8-4E53-ABA0-F43B1513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A8F-384F-4F8C-9D41-80E846D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1C9DE-353F-4C6C-8338-245DC3A5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F6665-5988-43D6-9206-831EA3A0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FD768-3F0C-49EC-B023-06E22390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47D-1551-4383-A829-C885667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79E-4F16-4CCE-8207-7518277D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FB49-CE7A-428B-BA37-7486BBDBB83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D5B4-B770-47F4-B056-1027673B4E3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7103-A758-4E5F-93DB-FAB2B63A84D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61C2-789E-4C93-9887-C4DFBBDE971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61E8-E4F8-4B2E-87C2-307BF384338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15A0-C7F1-4411-BA0D-89F52278A69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89000" y="1255680"/>
            <a:ext cx="9107280" cy="2498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64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- Searc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 Pac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clu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what my major will be: Secondary Education  for Mathema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cused on one school, accepted and pa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nd out more about what Keene Requires for this maj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d how much I will be paying for colle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e starts my Journey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beginning of my journe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have always wanted to be a teac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rted off wanting to be a kindergarten teacher but I also had interest in becoming a math teac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ghan Ferraco, Field hockey coach and Kindergarten teacher; told me they eat meals in her class and you never focus on one th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ade me re-think my maj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oking More into my 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viewing Mrs. Cassidy, my freshman math teacher helped a lo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ed me to realize becoming a high school math teacher is right for 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s. Weaver also helped, explaining how hard a day may be yet at the same time it is so rewar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ocusing on my 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would like to become a High school math teach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lege search – Narrowed down to three sch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con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offer Secondary education and are small- Medium sized sch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hoosing a Colle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tern – Small school, no masters program, do not like lo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Conn – Nice location, offer masters program, student body too large as well as class siz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– Location is welcoming, Offer masters program, student body small, class sizes sma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became my top choice (Also Accep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20 credits for Bachelors at Kee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 teach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8 Credits of math cla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axis Tests to become certified in the state I choose to teach 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s Benefits: Retirement, Heath Insurance, Summers / Vac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inanc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tal $ = 138,950 (Five yea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Chart 3" descr=""/>
          <p:cNvPicPr/>
          <p:nvPr/>
        </p:nvPicPr>
        <p:blipFill>
          <a:blip r:embed="rId1"/>
          <a:stretch/>
        </p:blipFill>
        <p:spPr>
          <a:xfrm>
            <a:off x="939960" y="2311560"/>
            <a:ext cx="718812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I Plan to Pay My Tu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larships &amp; Given Money($99,750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28600" y="2286000"/>
          <a:ext cx="8686800" cy="30178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5 Ye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ne Tuition Schola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0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parents Contribu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Study - Fed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ings: Parents &amp; 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SC Enrichment Scholarship (2.5 GPA maintain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I Plan to Pay My Tu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ans &amp; Money I need to pay back ($39,200) ( all without interest calcula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143000" y="3505320"/>
          <a:ext cx="6095880" cy="2295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5 Ye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Unsubsidized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ank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3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,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Un-subsidized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2:29:02Z</dcterms:created>
  <dc:creator>Owner</dc:creator>
  <dc:description/>
  <dc:language>en-US</dc:language>
  <cp:lastModifiedBy>Owner</cp:lastModifiedBy>
  <dcterms:modified xsi:type="dcterms:W3CDTF">2012-04-03T22:37:36Z</dcterms:modified>
  <cp:revision>8</cp:revision>
  <dc:subject/>
  <dc:title>Let the Journey Begin</dc:title>
</cp:coreProperties>
</file>