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3642-80B1-4977-B3ED-DB7F4CD91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5807-1231-473C-81CF-36DA9123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B755-5F49-40E2-B444-FDC5DCF0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8D59-1607-4D85-A0D0-705631D8C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0BCC-9D86-4B62-ABCA-CFAA60C1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F35A-D711-4E18-923F-EC69EA33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1910-F600-451C-B522-CBC8ED1E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E702-6C5F-4F85-A0A2-DC42A37A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ECC1-D5E1-4DE0-9092-2A78CB11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DF70-C9C2-4EAF-91B8-C91B395C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58F7-095B-458B-889A-613594FB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B872-47AE-46CD-8E46-0DBD7F19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83C7-C3D6-491F-95B8-82B23234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AF93-4486-4604-AB7D-DFA11612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DC9D-3CE8-4E17-93C1-F40A1B8E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A437-D203-4B5F-872C-ADB18603B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DEA8-4651-4C83-BB9A-1FCBFB48D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9F5F4-3053-479F-977A-F8B156D01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54CB3-6C4A-485F-A430-EE765C68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3EE0E-FD6F-4978-9DFB-E33F29D8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61AC7-5D47-407E-B7FA-B0E02AAF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477EB-713E-43F0-9071-FC22E270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1F4F-3C5F-42EC-9DB2-B00B59E6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C8639-A6D0-4A59-918A-9A62DC67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3E72A-BED8-406E-9346-190CACED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15CAA-E730-46B1-BF91-D2246520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34CAC-EF81-420E-B082-0657A352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AC97F-9644-4FF8-B49D-D539292F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A96BF-AE44-48C2-9AD3-DEF6E11BE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7E0CD-11A4-4648-BDF9-4A557194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FDF5D-32F1-4751-890D-4CD0BB69D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228D2-D579-45D6-BA7E-C04C7EC8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4A4F2-DFE9-4D3C-AC8D-766E3B15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CFCD-057D-4686-85F8-7C4B6E37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15B07-3006-4E6D-83AE-BF72386D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3DFF7-7D2F-4EB5-80CA-B5F37D17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3EDAC-376A-465D-B67C-D59A8277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FA165-2DEB-4802-9C06-072BEE6F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67DDA-F778-438A-AB85-E2F4B7BF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7439E-6951-45B9-AA96-F84DCF42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45F61-F60D-4E78-A272-555945D6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58AEA-524C-4D3A-B956-DF61F591A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BF317-186E-458A-AC70-C62BB6536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4A906-5622-4E86-881B-24B505A3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E318-672F-42C0-A01F-21A705EF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5C2FB-44D0-4FD8-B2EE-D80F057E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EFE66-B079-4D9F-92E3-60243A03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EC222-B7D5-4EBF-99DC-07DA6834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58565-9B31-477C-B065-1A0534D0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C9AA2-A55B-42E2-9DF9-1B59D800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CB281-3FA7-4684-97F1-E3F6FBB5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C01E3-7F79-4773-A2B4-079A8195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937C8-3578-4EFE-99B2-B2A1B41F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471DF-EC94-460A-A0FD-3EB803C8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F2D63-E77A-41CD-8663-3C884B3FB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4576-98B3-4B8A-8FB0-2C973646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27D07-8BE6-472F-84B5-08DBA0232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E17E4-D485-42CE-A38D-D68E5896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7C1DD-1170-4D17-9C84-F93FBEB6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BADDA-909E-4035-A68A-B1EB116E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49C1E-5F45-4285-9293-47B9F6ED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A9920-6028-4CA2-A807-6673DA40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9AF86-47C6-4002-9286-DBC74D4A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DA38A-BFC7-410A-9653-86474341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AD923-91C9-4FFE-A89C-F15D6D14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4AF49-6A2F-4D12-B272-883FEECF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6385-CDD2-43E3-B420-F8619556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61463-AFBF-44A8-93D8-1DDAC8AE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E1DBC-A13B-4AC8-B041-86455D6D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0CC01-31AE-4DC6-B342-EB4362A9A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1824-8651-4ED3-A66B-7B03F25A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20BF-B4FA-41CA-98E8-1B871A61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0C73-972F-4759-8F04-36F997FBCA5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9396-7BBA-41D0-94D6-CCAC5A63EE1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2AE8-3B94-405A-A182-B62758645A8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A6C3-D623-4EB3-9FE4-939D910B2D8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E988-448F-490D-98E4-8CB1DACB903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0D90-2BD5-4C9C-BC3A-7175741C5F2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189000" y="1255680"/>
            <a:ext cx="9107280" cy="2498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7720" y="3200400"/>
            <a:ext cx="64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- Search pa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ex Pacif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onclus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 learned what my major will be: Secondary Education  for Mathemat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cused on one school, accepted and pai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nd out more about what Keene Requires for this maj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earned how much I will be paying for colle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re starts my Journey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beginning of my journe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 have always wanted to be a teach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arted off wanting to be a kindergarten teacher but I also had interest in becoming a math teach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ghan Ferraco, Field hockey coach and Kindergarten teacher; told me they eat meals in her class and you never focus on one thin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made me re-think my majo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Looking More into my Career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erviewing Mrs. Cassidy, my freshman math teacher helped a lo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owed me to realize becoming a high school math teacher is right for m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rs. Weaver also helped, explaining how hard a day may be yet at the same time it is so rewardin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Focusing on my Career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 would like to become a High school math teach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llege search – Narrowed down to three sch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eene St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aster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con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 offer Secondary education and are small- Medium sized sch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hoosing a Colleg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astern – Small school, no masters program, do not like loc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Conn – Nice location, offer masters program, student body too large as well as class siz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eene – Location is welcoming, Offer masters program, student body small, class sizes small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eene became my top choice (Also Accepted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areer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20 credits for Bachelors at Kee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ent teach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8 Credits of math clas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axis Tests to become certified in the state I choose to teach 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achers Benefits: Retirement, Heath Insurance, Summers / Vacation ti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Financ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tal $ = 138,950 (Five year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Chart 3" descr=""/>
          <p:cNvPicPr/>
          <p:nvPr/>
        </p:nvPicPr>
        <p:blipFill>
          <a:blip r:embed="rId1"/>
          <a:stretch/>
        </p:blipFill>
        <p:spPr>
          <a:xfrm>
            <a:off x="939960" y="2311560"/>
            <a:ext cx="718812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How I Plan to Pay My Tui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cholarships &amp; Given Money($99,750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228600" y="2286000"/>
          <a:ext cx="8686800" cy="301788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2895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 Ye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(5 Year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ene Tuition Scholarshi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,0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,2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parents Contribu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Study - Fede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2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vings: Parents &amp; Sel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SC Enrichment Scholarship (2.5 GPA maintaine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How I Plan to Pay My Tui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ans &amp; Money I need to pay back ($39,200) ( all without interest calculated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143000" y="3505320"/>
          <a:ext cx="6095880" cy="22953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 Ye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(5 Year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Unsubsidized Loa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Bank Loa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3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1,7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Un-subsidized Loa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22:29:02Z</dcterms:created>
  <dc:creator>Owner</dc:creator>
  <dc:description/>
  <dc:language>en-US</dc:language>
  <cp:lastModifiedBy>Owner</cp:lastModifiedBy>
  <dcterms:modified xsi:type="dcterms:W3CDTF">2012-04-03T22:37:36Z</dcterms:modified>
  <cp:revision>8</cp:revision>
  <dc:subject/>
  <dc:title>Let the Journey Begin</dc:title>
</cp:coreProperties>
</file>