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D84-8CB3-4D65-9F41-517E60EC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C77-CA5B-49CF-988F-871A83A7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B36-7F83-452C-AB82-5B6D13CB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5C2-48B2-4247-9207-CDF31457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094F-6F6A-40B4-ADEF-B385F237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1A60-52DD-4CFE-8265-82063819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E8B4-5BD8-47EB-BF27-1D25F677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0B59-6D09-45D0-AE55-B2EBC9F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A90-A0A1-4856-BD2A-C54F7B91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152B-13AA-4B22-A32E-BC3E6AF3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A136-3896-4BFF-B61F-E3E3CA7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A59-5AB7-408C-BE5E-82EAE2C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2D75-C345-4D3E-8852-2F958CFC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593C-27AE-4E19-881D-D888A63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ADE-F3FF-4274-BA3F-6EFEDA3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1E2B-04AD-4FA9-B9F2-B345D127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4D90-2C69-4B49-9468-EE805512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7923-C78E-4037-95E0-525DE529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2F6C1-86EA-4004-B17F-020F18D0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EA84-8043-43CA-9D87-27B39AE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6E08-9A21-4DC1-9F97-AF8017C4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05B6-8A29-4744-92BA-93F662F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D5A-9DEA-4668-AF2D-E07A5AD4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0DC6-565D-4F20-B490-5E03F345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3B0D-6499-479B-815C-54FBA92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6B54-0AA5-465A-9B7E-A9E8F55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915F-9FD3-4BE6-B353-B4CAA29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8F37-2F16-48A0-936F-891F6268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96FF-EA43-4B3D-BEAD-D8704388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3B3E-4FC4-4025-A5CF-027CDF97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CC273-BDA9-494F-B1B6-74DA5DC8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9E6D-B4EB-48C9-8365-A931322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D21B-830A-4FA2-A802-7E11AD96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8A2-04A8-4772-808D-87926263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0FBD-BAD6-4ADB-A316-77149B83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91BB-3FAC-4C44-B6C0-180A01F4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89CB-9238-47A0-9E27-7C09B0A4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4B49-273D-48A1-8CA0-3B159DE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82AE-79FD-4ACD-8E68-CE34B9E0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E16E-5071-4C25-A2FF-8D5F2F69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47EE-9386-41D2-8586-EC072FF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AA9A-3E08-4D31-AE9F-A0832739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7A55-5137-431F-A63E-360B00CB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C4A2-50E3-42A9-A126-B7D6AA0B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DEF-FB49-417F-AC83-93B69EE9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8133F-2D7D-45A7-B452-3F670C3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B3FF-216D-41AE-A84F-C084A299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5139-7DBE-423A-B245-79A4AD9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8E9B-F4B0-4D45-B204-C1324CA6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F444-E37B-491A-A043-4EE4C091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A85BB-C0E1-42C6-A279-2F8E717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769D6-AD68-4C6F-94C0-8C13180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1F0D-CEB4-43CE-8FC2-A11CAF3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9B65-C6C7-429C-870B-FF1B590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C6291-88A9-4D10-B7AA-E46BB8A8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688-1CD8-4655-96E6-EFC8C264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8C39-6BB2-4BA3-9C4E-6252FC63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AEA3-CEE8-4BEE-82AF-A7146DB4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5AAB-C23E-43FC-B844-3EDE9E0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56C5-30D8-44C4-80B4-BC9E8EC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0DDF-8CF2-49D0-A71B-720B170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4EF6-AB92-447E-AC5D-5BD9D8D8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E0EAC-D0F1-45BE-B1F3-D6A0C09E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CAE1-8833-4A23-B9EE-F1D1D48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B03D9-A8AD-417C-A954-6258053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5D9FE-0BC7-4AEC-A387-CAC2E69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FC1-F7C3-4F02-BF45-200D709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A6E4F-5DBE-4224-97EB-D8DDC9D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2A80-FFBC-4B04-A64A-2BD73C43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0D27-09A7-4B54-A60C-11959099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8E0-C9FC-483E-B193-7B5921A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034-5CAE-4556-9F6A-818D4EB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09AE-0317-4AD0-A745-98FA23C9C1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75C-DC5A-47B8-B9C7-5F8BFB90555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B9D4-E6B4-4F10-9BD6-1DB2542BFE8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5EE-BD59-4233-9497-27DA5ADCBE5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76E-EE64-41A5-9AC1-D89376330B1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E9B1-C6BC-4197-B454-C2AEB748D3C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89000" y="1255680"/>
            <a:ext cx="9107280" cy="2498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- Searc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 Pac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clu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what my major will be: Secondary Education  for Mathemat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ed on one school, accepted and pa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nd out more about what Keene Requires for this maj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d how much I will be paying for colle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e starts my Journey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beginning of my journe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have always wanted to be a teac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ed off wanting to be a kindergarten teacher but I also had interest in becoming a math teac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ghan Ferraco, Field hockey coach and Kindergarten teacher; told me they eat meals in her class and you never focus on one th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ade me re-think my maj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oking More into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viewing Mrs. Cassidy, my freshman math teacher helped a lo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ed me to realize becoming a high school math teacher is right for m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s. Weaver also helped, explaining how hard a day may be yet at the same time it is so rewar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ocusing on my 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become a High school math teach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ge search – Narrowed down to three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offer Secondary education and are small- Medium sized sch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hoosing a Colle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tern – Small school, no masters program, do not like lo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Conn – Nice location, offer masters program, student body too large as well as class siz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– Location is welcoming, Offer masters program, student body small, class sizes smal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ene became my top choice (Also Accep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ree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0 credits for Bachelors at Ke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 teac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8 Credits of math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axis Tests to become certified in the state I choose to teach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s Benefits: Retirement, Heath Insurance, Summers / Vac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ina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tal $ = 138,950 (Five yea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Chart 3" descr=""/>
          <p:cNvPicPr/>
          <p:nvPr/>
        </p:nvPicPr>
        <p:blipFill>
          <a:blip r:embed="rId1"/>
          <a:stretch/>
        </p:blipFill>
        <p:spPr>
          <a:xfrm>
            <a:off x="939960" y="2311560"/>
            <a:ext cx="718812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larships &amp; Given Money($99,75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2286000"/>
          <a:ext cx="8686800" cy="3017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ne Tuition Schola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0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parents Contribu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Study - Fed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ings: Parents &amp; Se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SC Enrichment Scholarship (2.5 GPA maintain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I Plan to Pay My Tui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ans &amp; Money I need to pay back ($39,200) ( all without interest calcula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43000" y="3505320"/>
          <a:ext cx="6095880" cy="2295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5 Ye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ank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3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Un-subsidized Lo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2:29:02Z</dcterms:created>
  <dc:creator>Owner</dc:creator>
  <dc:description/>
  <dc:language>en-US</dc:language>
  <cp:lastModifiedBy>Owner</cp:lastModifiedBy>
  <dcterms:modified xsi:type="dcterms:W3CDTF">2012-04-03T22:37:36Z</dcterms:modified>
  <cp:revision>8</cp:revision>
  <dc:subject/>
  <dc:title>Let the Journey Begin</dc:title>
</cp:coreProperties>
</file>