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F84C-3E71-4E10-B592-1BAE68567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77FE-001D-4E5B-B451-A7508787E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D4DF-E9A7-4A56-91C2-A8A59ABD4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7479-A6DD-4571-A541-4301B89E3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E28D0-D38E-481C-99B7-BEA0C40AF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7FA16-2D94-48AB-8FA5-79DA2DF36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5817B-794C-429C-B80D-077E91CCA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1C4BD-D5EB-44B6-8230-ECEA8E3C7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3E7D1-97B5-4A07-8C0C-1571F05F8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D2592-1006-46FF-B98F-375360B6E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9DAF7-635F-4D99-ADE2-AA341F7CB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2935-E508-4F28-BB60-1E34753C7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D4964-3746-4DDF-A04D-05CDAC6A5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8A5A3-8278-46B9-B0E7-BD8B0BD27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294E7-DD69-4D34-96E4-F81999605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B5ADF-8B73-4A15-9612-20EC88036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20E9B-480D-4FD8-B8F6-F7C3C657B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F9A57-E8D2-4A52-8593-269454E34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6CDFF-C6CD-4188-947F-49C5D3230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EE871-B026-418D-AE8A-24BA34966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64A03-3062-499A-BBCE-CF7E40AC9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65F5E-3612-4E1E-B07E-A2B71E939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FE79-13D8-45C5-98C3-E8A9CB693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8F90A-6ECA-4F72-87A0-767183E77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C3FAA-E86F-49E3-9A30-DE189FC73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F3021-4D42-428C-B7E9-ED66B348B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A7903-09D7-4A7D-A447-2E3C68053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74173-FB63-4B47-B1C5-DBDC69B43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808C6-774A-4807-BBC5-61DF9B8F8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C04FD-88CB-420B-970C-1DFA46AAB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BE989-A583-436A-BC9E-DC00D395A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F26ED-D8D4-4628-B001-AB378073C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F7C37-0496-4BDD-B547-D69958DCB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8D28-187C-4BF5-977D-97E738DED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33F50-4D61-4BCA-B7F8-722A96A31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8E3D9-A6BD-4A0D-A9C1-F392E93BB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7B299-13EA-4DD2-8740-E138233CB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F3E5D-6190-4454-B715-010A1C226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204F7-5693-49D2-8C3A-93E03386C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3FCA4-F49E-403C-B6AC-2E8338A65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CCD01-459B-4E36-947A-CA9D3CAE3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935CE-47AE-40A5-ABC6-4654AA5BE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ED25A-A311-478C-A274-8B588F12A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445637-8FA0-446E-8F39-C2AFC50C5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7347-0F55-4285-BCB7-D5E1A598F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76F01F-0FCE-48A3-A856-2B870F78B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2F578A-A4CA-42A6-BB8D-AD17288F8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542552-4C04-452C-929D-3B1B5CCF6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3DF81F-E5CB-4E93-BD0F-743986AC3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4DAF7D-3FC4-4AD3-A985-AF8EC4F61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CA497D-FA5C-49A6-A18F-A86386F1C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85FE28-EF5C-4B8D-A957-399E1636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0389BA-C73F-4E71-B880-1FD6B2338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FE2D27-D1BE-4F42-875E-9E2D96810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EB4756-6ABE-4D50-9ED1-69EF756FB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B9E6-AB1F-4ADF-9D90-2D1D2FB71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80DB3E-A396-40B0-8536-11E53B7B9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5E9F89-0F4F-48E2-A897-58583B77E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C0B8A0-CC7C-408B-876E-4B57AC84A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BB5BBB-BF7B-4EF6-A99A-1C8DDE18B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09F0AB-D787-4214-8382-DE844B31B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AA8A11-E676-4160-BA3C-5CFBE86DA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B701D0-B069-450F-A7DE-ECA9B0A2F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18F802-F3B6-4E3B-9F62-1EE2E6790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DE10E6-457C-4963-8D8B-5CBF44A7D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EE08EB-A48E-4F07-8E07-7BC15A3DF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27FD-AE10-44AF-B3EE-B346059E3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757FB8-2BB9-4E7E-A802-561932F72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D53C24-8242-41B7-A2E9-791362C4C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2B43F8-6B0C-4ECB-B715-3B9029354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28E8-9CC4-4BED-99AE-78CA08C87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35FC-9E0A-4B3C-B1CC-5814AA626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2A1E7-0525-4949-830B-10B34F908312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9FD51-44BF-4542-88A0-153A2478B01D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08739-C6CF-4E16-8483-E7C2316E4897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99B43-AE1B-48CF-B55C-FF012CFCBE1B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74A00-30BB-401D-82DF-55C69827A89C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33A05-845E-4D9C-9159-9BF1E5BC94D6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Title 1" descr=""/>
          <p:cNvPicPr/>
          <p:nvPr/>
        </p:nvPicPr>
        <p:blipFill>
          <a:blip r:embed="rId1"/>
          <a:stretch/>
        </p:blipFill>
        <p:spPr>
          <a:xfrm>
            <a:off x="189000" y="1255680"/>
            <a:ext cx="9107280" cy="24987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837720" y="3200400"/>
            <a:ext cx="6480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- Search pap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ex Pacif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onclus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 learned what my major will be: Secondary Education  for Mathematic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cused on one school, accepted and pai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nd out more about what Keene Requires for this majo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earned how much I will be paying for colleg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ere starts my Journey…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The beginning of my journey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 have always wanted to be a teach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tarted off wanting to be a kindergarten teacher but I also had interest in becoming a math teacher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eghan Ferraco, Field hockey coach and Kindergarten teacher; told me they eat meals in her class and you never focus on one thing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s made me re-think my major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Looking More into my Career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terviewing Mrs. Cassidy, my freshman math teacher helped a lo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llowed me to realize becoming a high school math teacher is right for me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rs. Weaver also helped, explaining how hard a day may be yet at the same time it is so rewarding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Focusing on my Career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 would like to become a High school math teacher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llege search – Narrowed down to three school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Keene Stat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aster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Ucon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ll offer Secondary education and are small- Medium sized school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hoosing a Colleg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astern – Small school, no masters program, do not like loc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UConn – Nice location, offer masters program, student body too large as well as class siz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Keene – Location is welcoming, Offer masters program, student body small, class sizes small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Keene became my top choice (Also Accepted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areer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120 credits for Bachelors at Keen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tudent teach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48 Credits of math class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axis Tests to become certified in the state I choose to teach i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eachers Benefits: Retirement, Heath Insurance, Summers / Vacation ti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Finance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otal $ = 138,950 (Five years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Chart 3" descr=""/>
          <p:cNvPicPr/>
          <p:nvPr/>
        </p:nvPicPr>
        <p:blipFill>
          <a:blip r:embed="rId1"/>
          <a:stretch/>
        </p:blipFill>
        <p:spPr>
          <a:xfrm>
            <a:off x="939960" y="2311560"/>
            <a:ext cx="7188120" cy="45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How I Plan to Pay My Tuit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cholarships &amp; Given Money($99,750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228600" y="2286000"/>
          <a:ext cx="8686800" cy="3017880"/>
        </p:xfrm>
        <a:graphic>
          <a:graphicData uri="http://schemas.openxmlformats.org/drawingml/2006/table">
            <a:tbl>
              <a:tblPr/>
              <a:tblGrid>
                <a:gridCol w="2895480"/>
                <a:gridCol w="2895840"/>
                <a:gridCol w="28954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 Ye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 (5 Year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ene Tuition Scholarshi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8,0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0,2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ndparents Contributi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5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 Study - Feder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,5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2,5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vings: Parents &amp; Sel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,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2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SC Enrichment Scholarship (2.5 GPA maintained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How I Plan to Pay My Tuit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oans &amp; Money I need to pay back ($39,200) ( all without interest calculated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1143000" y="3505320"/>
          <a:ext cx="6095880" cy="229536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 Ye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 (5 Year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 Unsubsidized Loa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,5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7,5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 Bank Loa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,3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1,7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 Un-subsidized Loa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1T22:29:02Z</dcterms:created>
  <dc:creator>Owner</dc:creator>
  <dc:description/>
  <dc:language>en-US</dc:language>
  <cp:lastModifiedBy>Owner</cp:lastModifiedBy>
  <dcterms:modified xsi:type="dcterms:W3CDTF">2012-04-03T22:37:36Z</dcterms:modified>
  <cp:revision>8</cp:revision>
  <dc:subject/>
  <dc:title>Let the Journey Begin</dc:title>
</cp:coreProperties>
</file>