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BA4-68B2-471B-A5B5-F97CB0D6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0AE-09ED-4B34-8C7E-40373E79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AA4-3BC5-469C-9979-F46248FA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B5F-70E8-4214-94FA-9E8B33CC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C4D6-0EBC-4397-984E-9571084D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D004-0C17-4510-896A-F04FA7D5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17EC-C4E1-4BD8-8A7B-A2001889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AD80-47F1-49F4-A762-10909F6D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4859-4E12-46A9-BF69-691F742F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07DD-58E3-4144-9A9F-E76A0FC6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3601-E637-45C2-A249-532320A3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051-1516-4166-879F-943DD8F7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8E01-7BFA-42BC-A3A0-3B10F2B9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BBBA-C0E8-4F6A-960B-23110DDB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8DED-77A2-47BD-8963-BE48A6D6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046E-40F4-495E-9563-E0AA1B54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8DCC-004B-4245-AC5E-57D675B1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0F1-FB91-4453-BD3B-D0B5868B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D3D-3383-4240-8E9C-8955CF6B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2E3-5B35-471E-B182-C90DF0AB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BF2-A00E-4A0F-82BF-39A91613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357-6627-41B1-B917-23A4435E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3C6-B272-4FFE-9499-64EE7BA7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8B4-DB84-4459-BF8A-8B1B17FE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5BA9-B993-4110-91AE-1BD480FC6D17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78588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93704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8966-93BC-4ABF-ADA1-E7DE1DE81BFF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Ralph Johnston Jr.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506920" y="640548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By: Samantha Nichols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217600" y="1517760"/>
            <a:ext cx="46832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Who was Ralph Johnston?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8" name="Picture 8" descr="C:\Users\hsjohnston\Downloads\grandfather_with_grandson.jpg"/>
          <p:cNvPicPr/>
          <p:nvPr/>
        </p:nvPicPr>
        <p:blipFill>
          <a:blip r:embed="rId1"/>
          <a:stretch/>
        </p:blipFill>
        <p:spPr>
          <a:xfrm>
            <a:off x="1590840" y="1581120"/>
            <a:ext cx="2492280" cy="1636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5800" y="1760040"/>
            <a:ext cx="3611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0" name="Picture 9" descr="C:\Users\hsjohnston\Downloads\Father-son.jpg"/>
          <p:cNvPicPr/>
          <p:nvPr/>
        </p:nvPicPr>
        <p:blipFill>
          <a:blip r:embed="rId7"/>
          <a:stretch/>
        </p:blipFill>
        <p:spPr>
          <a:xfrm>
            <a:off x="1406520" y="3413160"/>
            <a:ext cx="2676600" cy="2712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hsjohnston\Downloads\Navy-Seal.jpg"/>
          <p:cNvPicPr/>
          <p:nvPr/>
        </p:nvPicPr>
        <p:blipFill>
          <a:blip r:embed="rId8"/>
          <a:stretch/>
        </p:blipFill>
        <p:spPr>
          <a:xfrm>
            <a:off x="4844880" y="2797200"/>
            <a:ext cx="36118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Life as a Child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Born on March 16,1940 in Boston, Massachusett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son of Doris &amp; Ralph Johnsto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loving brother to Betty Lou, Mary, Richard and Hele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began working on a farm, and helping his mother cook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is how his love for food made him want to become a chief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Norwich State Hospital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06520" y="5843520"/>
            <a:ext cx="71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Where he worked as head chef along side of his best friend Nelson Provost 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6" name="Picture 4" descr="C:\Users\hsjohnston\Downloads\salmon.jpg"/>
          <p:cNvPicPr/>
          <p:nvPr/>
        </p:nvPicPr>
        <p:blipFill>
          <a:blip r:embed="rId1"/>
          <a:stretch/>
        </p:blipFill>
        <p:spPr>
          <a:xfrm>
            <a:off x="2268360" y="1893960"/>
            <a:ext cx="4535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My favorite Meal by Poppy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8" name="Picture 8" descr="C:\Users\hsjohnston\Downloads\thumb_COLOURBOX1737533.jpg"/>
          <p:cNvPicPr/>
          <p:nvPr/>
        </p:nvPicPr>
        <p:blipFill>
          <a:blip r:embed="rId1"/>
          <a:stretch/>
        </p:blipFill>
        <p:spPr>
          <a:xfrm>
            <a:off x="685800" y="1479600"/>
            <a:ext cx="2468520" cy="2368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Users\hsjohnston\Downloads\143-meatballs.JPG"/>
          <p:cNvPicPr/>
          <p:nvPr/>
        </p:nvPicPr>
        <p:blipFill>
          <a:blip r:embed="rId2"/>
          <a:stretch/>
        </p:blipFill>
        <p:spPr>
          <a:xfrm>
            <a:off x="5346720" y="1871640"/>
            <a:ext cx="2630520" cy="1976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Users\hsjohnston\Downloads\sauce.jpg"/>
          <p:cNvPicPr/>
          <p:nvPr/>
        </p:nvPicPr>
        <p:blipFill>
          <a:blip r:embed="rId3"/>
          <a:stretch/>
        </p:blipFill>
        <p:spPr>
          <a:xfrm>
            <a:off x="3154320" y="4281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Youzer- Bowzer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68400"/>
            <a:ext cx="777096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made up his own word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word meant anything from thank you to yes I am done listening to you and I'm cutting you off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was also loved his western movies with John Wayn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3" name="Picture 2" descr="C:\Users\hsjohnston\Downloads\languages.jpg"/>
          <p:cNvPicPr/>
          <p:nvPr/>
        </p:nvPicPr>
        <p:blipFill>
          <a:blip r:embed="rId4"/>
          <a:stretch/>
        </p:blipFill>
        <p:spPr>
          <a:xfrm>
            <a:off x="6143760" y="4165560"/>
            <a:ext cx="2533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John Wayne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5" name="Picture 2" descr="C:\Users\hsjohnston\Downloads\john-wayne.jpg"/>
          <p:cNvPicPr/>
          <p:nvPr/>
        </p:nvPicPr>
        <p:blipFill>
          <a:blip r:embed="rId1"/>
          <a:stretch/>
        </p:blipFill>
        <p:spPr>
          <a:xfrm>
            <a:off x="1011240" y="1800360"/>
            <a:ext cx="2962440" cy="4286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hsjohnston\Downloads\24367_john-wayne-triple.jpg"/>
          <p:cNvPicPr/>
          <p:nvPr/>
        </p:nvPicPr>
        <p:blipFill>
          <a:blip r:embed="rId2"/>
          <a:stretch/>
        </p:blipFill>
        <p:spPr>
          <a:xfrm>
            <a:off x="4844880" y="2682720"/>
            <a:ext cx="3611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Things He Has Taught Me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8" name="Picture 2" descr="C:\Users\hsjohnston\Downloads\tie a shoe.jpg"/>
          <p:cNvPicPr/>
          <p:nvPr/>
        </p:nvPicPr>
        <p:blipFill>
          <a:blip r:embed="rId1"/>
          <a:stretch/>
        </p:blipFill>
        <p:spPr>
          <a:xfrm>
            <a:off x="685800" y="3800520"/>
            <a:ext cx="3611520" cy="2708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hsjohnston\Downloads\01.jpg"/>
          <p:cNvPicPr/>
          <p:nvPr/>
        </p:nvPicPr>
        <p:blipFill>
          <a:blip r:embed="rId2"/>
          <a:stretch/>
        </p:blipFill>
        <p:spPr>
          <a:xfrm>
            <a:off x="4935600" y="2228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hsjohnston\Downloads\IMG_0050.JPG"/>
          <p:cNvPicPr/>
          <p:nvPr/>
        </p:nvPicPr>
        <p:blipFill>
          <a:blip r:embed="rId3"/>
          <a:stretch/>
        </p:blipFill>
        <p:spPr>
          <a:xfrm>
            <a:off x="996840" y="1332000"/>
            <a:ext cx="2862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onclusion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You have been a role model to so many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I wanted to say “Thank You” for everything that you have done for m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has not only been my grandfather, but a father figure for me, he is one of the best chef’s around Norwich, and should be remembered for all his accomplishments not for his death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May you rest in peace and one day we will all be reunited in the afterlife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6:22:32Z</dcterms:created>
  <dc:creator>Kayla Johnson</dc:creator>
  <dc:description/>
  <dc:language>en-US</dc:language>
  <cp:lastModifiedBy>hsjohnston</cp:lastModifiedBy>
  <dcterms:modified xsi:type="dcterms:W3CDTF">2012-06-08T10:39:03Z</dcterms:modified>
  <cp:revision>6</cp:revision>
  <dc:subject/>
  <dc:title>Whitney Houston</dc:title>
</cp:coreProperties>
</file>