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E05-5721-4F0A-9F7F-47CEAE0A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97C-D688-4A9A-9E11-9980965F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27A-996F-41DE-A9B1-C5439EAB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A83-8314-4E14-B9D9-D09A3C5D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5CF1-8AA8-4807-84C3-5C942EF7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A72E-434C-48C9-AF5E-87E92BD1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B741-DAB3-46EF-AA64-67341D6D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2ADE-1F68-4F1D-84CE-653D51CD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322B-3D03-48FC-ADD4-6D64F58F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8538-6328-41F2-B26D-7321C949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13F8-BF68-4FF9-9C20-A544B82F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ACC-38AC-4EB1-BC56-A2FC9511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FC7A-6786-4A7F-A528-B3BCD396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DED3-D540-4FA8-B5F3-FBC217F9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4D8F-6ADF-4501-A2FB-9F0053DF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7E64-828A-42F2-A942-FACCD164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E3D7-BF03-427E-80D3-2CEB785A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112-D544-4728-8F10-F7C0350B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70C-40D6-4203-B328-504DBC7C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4CF-CCF5-4096-93DA-E3ED1392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2BC-CC0E-4723-908F-6146DF71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837-754B-4906-8040-1B15B884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D01-AA95-439E-8F6C-D2DE754C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D3B-E697-4A02-88F2-26F05560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33E0-34C2-4A7A-A660-3130BB5E9585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78588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93704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9721-3B94-4BDD-9897-0C872F17B65A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Ralph Johnston Jr.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506920" y="640548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By: Samantha Nichols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217600" y="1517760"/>
            <a:ext cx="46832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Who was Ralph Johnston?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8" name="Picture 8" descr="C:\Users\hsjohnston\Downloads\grandfather_with_grandson.jpg"/>
          <p:cNvPicPr/>
          <p:nvPr/>
        </p:nvPicPr>
        <p:blipFill>
          <a:blip r:embed="rId1"/>
          <a:stretch/>
        </p:blipFill>
        <p:spPr>
          <a:xfrm>
            <a:off x="1590840" y="1581120"/>
            <a:ext cx="2492280" cy="1636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5800" y="1760040"/>
            <a:ext cx="3611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0" name="Picture 9" descr="C:\Users\hsjohnston\Downloads\Father-son.jpg"/>
          <p:cNvPicPr/>
          <p:nvPr/>
        </p:nvPicPr>
        <p:blipFill>
          <a:blip r:embed="rId7"/>
          <a:stretch/>
        </p:blipFill>
        <p:spPr>
          <a:xfrm>
            <a:off x="1406520" y="3413160"/>
            <a:ext cx="2676600" cy="2712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hsjohnston\Downloads\Navy-Seal.jpg"/>
          <p:cNvPicPr/>
          <p:nvPr/>
        </p:nvPicPr>
        <p:blipFill>
          <a:blip r:embed="rId8"/>
          <a:stretch/>
        </p:blipFill>
        <p:spPr>
          <a:xfrm>
            <a:off x="4844880" y="2797200"/>
            <a:ext cx="36118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Life as a Child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Born on March 16,1940 in Boston, Massachusett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son of Doris &amp; Ralph Johnsto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loving brother to Betty Lou, Mary, Richard and Hele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began working on a farm, and helping his mother cook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is how his love for food made him want to become a chief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Norwich State Hospital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06520" y="5843520"/>
            <a:ext cx="71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Where he worked as head chef along side of his best friend Nelson Provost 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6" name="Picture 4" descr="C:\Users\hsjohnston\Downloads\salmon.jpg"/>
          <p:cNvPicPr/>
          <p:nvPr/>
        </p:nvPicPr>
        <p:blipFill>
          <a:blip r:embed="rId1"/>
          <a:stretch/>
        </p:blipFill>
        <p:spPr>
          <a:xfrm>
            <a:off x="2268360" y="1893960"/>
            <a:ext cx="4535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My favorite Meal by Poppy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8" name="Picture 8" descr="C:\Users\hsjohnston\Downloads\thumb_COLOURBOX1737533.jpg"/>
          <p:cNvPicPr/>
          <p:nvPr/>
        </p:nvPicPr>
        <p:blipFill>
          <a:blip r:embed="rId1"/>
          <a:stretch/>
        </p:blipFill>
        <p:spPr>
          <a:xfrm>
            <a:off x="685800" y="1479600"/>
            <a:ext cx="2468520" cy="2368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Users\hsjohnston\Downloads\143-meatballs.JPG"/>
          <p:cNvPicPr/>
          <p:nvPr/>
        </p:nvPicPr>
        <p:blipFill>
          <a:blip r:embed="rId2"/>
          <a:stretch/>
        </p:blipFill>
        <p:spPr>
          <a:xfrm>
            <a:off x="5346720" y="1871640"/>
            <a:ext cx="2630520" cy="1976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Users\hsjohnston\Downloads\sauce.jpg"/>
          <p:cNvPicPr/>
          <p:nvPr/>
        </p:nvPicPr>
        <p:blipFill>
          <a:blip r:embed="rId3"/>
          <a:stretch/>
        </p:blipFill>
        <p:spPr>
          <a:xfrm>
            <a:off x="3154320" y="4281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Youzer- Bowzer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68400"/>
            <a:ext cx="777096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made up his own word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word meant anything from thank you to yes I am done listening to you and I'm cutting you off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was also loved his western movies with John Wayn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3" name="Picture 2" descr="C:\Users\hsjohnston\Downloads\languages.jpg"/>
          <p:cNvPicPr/>
          <p:nvPr/>
        </p:nvPicPr>
        <p:blipFill>
          <a:blip r:embed="rId4"/>
          <a:stretch/>
        </p:blipFill>
        <p:spPr>
          <a:xfrm>
            <a:off x="6143760" y="4165560"/>
            <a:ext cx="2533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John Wayne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5" name="Picture 2" descr="C:\Users\hsjohnston\Downloads\john-wayne.jpg"/>
          <p:cNvPicPr/>
          <p:nvPr/>
        </p:nvPicPr>
        <p:blipFill>
          <a:blip r:embed="rId1"/>
          <a:stretch/>
        </p:blipFill>
        <p:spPr>
          <a:xfrm>
            <a:off x="1011240" y="1800360"/>
            <a:ext cx="2962440" cy="4286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hsjohnston\Downloads\24367_john-wayne-triple.jpg"/>
          <p:cNvPicPr/>
          <p:nvPr/>
        </p:nvPicPr>
        <p:blipFill>
          <a:blip r:embed="rId2"/>
          <a:stretch/>
        </p:blipFill>
        <p:spPr>
          <a:xfrm>
            <a:off x="4844880" y="2682720"/>
            <a:ext cx="3611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Things He Has Taught Me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8" name="Picture 2" descr="C:\Users\hsjohnston\Downloads\tie a shoe.jpg"/>
          <p:cNvPicPr/>
          <p:nvPr/>
        </p:nvPicPr>
        <p:blipFill>
          <a:blip r:embed="rId1"/>
          <a:stretch/>
        </p:blipFill>
        <p:spPr>
          <a:xfrm>
            <a:off x="685800" y="3800520"/>
            <a:ext cx="3611520" cy="2708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hsjohnston\Downloads\01.jpg"/>
          <p:cNvPicPr/>
          <p:nvPr/>
        </p:nvPicPr>
        <p:blipFill>
          <a:blip r:embed="rId2"/>
          <a:stretch/>
        </p:blipFill>
        <p:spPr>
          <a:xfrm>
            <a:off x="4935600" y="2228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hsjohnston\Downloads\IMG_0050.JPG"/>
          <p:cNvPicPr/>
          <p:nvPr/>
        </p:nvPicPr>
        <p:blipFill>
          <a:blip r:embed="rId3"/>
          <a:stretch/>
        </p:blipFill>
        <p:spPr>
          <a:xfrm>
            <a:off x="996840" y="1332000"/>
            <a:ext cx="2862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onclusion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You have been a role model to so many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I wanted to say “Thank You” for everything that you have done for m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has not only been my grandfather, but a father figure for me, he is one of the best chef’s around Norwich, and should be remembered for all his accomplishments not for his death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May you rest in peace and one day we will all be reunited in the afterlife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6:22:32Z</dcterms:created>
  <dc:creator>Kayla Johnson</dc:creator>
  <dc:description/>
  <dc:language>en-US</dc:language>
  <cp:lastModifiedBy>hsjohnston</cp:lastModifiedBy>
  <dcterms:modified xsi:type="dcterms:W3CDTF">2012-06-08T10:39:03Z</dcterms:modified>
  <cp:revision>6</cp:revision>
  <dc:subject/>
  <dc:title>Whitney Houston</dc:title>
</cp:coreProperties>
</file>