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2922-90EE-4ED9-9BC7-DF05475D8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627E-9703-499A-B5D7-518769A0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C448-4DCD-4061-911B-A403EB0C2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9D44-383D-4B56-A793-B9B5971D3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8197A-5922-4EBC-BE41-FE2E594DF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2475-509C-4689-A4CD-9CCAB211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7476-7BAF-4DFA-98B4-4AE6CAD6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A045-055C-4381-8BE8-C151D090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21905-FEF0-4EA8-9A5A-53F07A2E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2024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2369-D48E-47D9-BAD4-ED0074F7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CD6A-AC77-45B6-B631-629F479F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B359-D2AD-46D9-B3D6-551069EA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C0D7-3417-451B-B8A9-671A22B9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FB4D-0C0A-4B0E-94C5-DE8BC7ED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BBD0-497E-4D29-8A1C-A4332D6E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0B48-03C3-49F7-A8EB-4D9293C34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44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072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44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072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00A9-CE2E-47C5-B24B-54025E799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86D1-6232-40D5-8CD9-5F891872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6819-9177-4157-A4BB-9540CD3F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6FE8-189A-40F2-B51B-E01FFE33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2024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2A5E-9C6E-473E-A6AA-72F2927D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C8AD-945C-4DE2-B528-1ED14D01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3D08-B78F-4556-B4E4-F284AED8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F618-5E72-4262-89FA-561EB73A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1" marL="685800" indent="-33660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2" marL="1035000" indent="-349200">
              <a:spcBef>
                <a:spcPts val="2001"/>
              </a:spcBef>
              <a:buSzPct val="1122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3" marL="1371600" indent="-33660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4" marL="1720800" indent="-34920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5" marL="1720800" indent="-34920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6" marL="1720800" indent="-34920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00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sto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2892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7740-23DA-4325-8D8E-1BB2655D3173}" type="slidenum">
              <a:rPr b="0" lang="en-US" sz="1200" spc="-1" strike="noStrike">
                <a:solidFill>
                  <a:srgbClr val="ffffff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785880" y="2192400"/>
            <a:ext cx="3429000" cy="1440"/>
          </a:xfrm>
          <a:prstGeom prst="line">
            <a:avLst/>
          </a:prstGeom>
          <a:ln w="6480">
            <a:solidFill>
              <a:srgbClr val="ffffff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937040" y="2192400"/>
            <a:ext cx="3429000" cy="1440"/>
          </a:xfrm>
          <a:prstGeom prst="line">
            <a:avLst/>
          </a:prstGeom>
          <a:ln w="6480">
            <a:solidFill>
              <a:srgbClr val="ffffff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1" marL="685800" indent="-33660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2" marL="1035000" indent="-349200">
              <a:spcBef>
                <a:spcPts val="2001"/>
              </a:spcBef>
              <a:buSzPct val="1122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3" marL="1371600" indent="-33660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4" marL="1720800" indent="-34920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5" marL="1720800" indent="-34920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6" marL="1720800" indent="-34920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6200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sto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422892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3E1C-EAAA-481F-9124-3D515483D4AF}" type="slidenum">
              <a:rPr b="0" lang="en-US" sz="1200" spc="-1" strike="noStrike">
                <a:solidFill>
                  <a:srgbClr val="ffffff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3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sto MT"/>
              </a:rPr>
              <a:t>Ralph Johnston Jr.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5506920" y="6405480"/>
            <a:ext cx="36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              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By: Samantha Nichols</a:t>
            </a: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2217600" y="1517760"/>
            <a:ext cx="468324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Who was Ralph Johnston?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88" name="Picture 8" descr="C:\Users\hsjohnston\Downloads\grandfather_with_grandson.jpg"/>
          <p:cNvPicPr/>
          <p:nvPr/>
        </p:nvPicPr>
        <p:blipFill>
          <a:blip r:embed="rId1"/>
          <a:stretch/>
        </p:blipFill>
        <p:spPr>
          <a:xfrm>
            <a:off x="1590840" y="1581120"/>
            <a:ext cx="2492280" cy="1636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685800" y="1760040"/>
            <a:ext cx="361152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90" name="Picture 9" descr="C:\Users\hsjohnston\Downloads\Father-son.jpg"/>
          <p:cNvPicPr/>
          <p:nvPr/>
        </p:nvPicPr>
        <p:blipFill>
          <a:blip r:embed="rId7"/>
          <a:stretch/>
        </p:blipFill>
        <p:spPr>
          <a:xfrm>
            <a:off x="1406520" y="3413160"/>
            <a:ext cx="2676600" cy="2712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C:\Users\hsjohnston\Downloads\Navy-Seal.jpg"/>
          <p:cNvPicPr/>
          <p:nvPr/>
        </p:nvPicPr>
        <p:blipFill>
          <a:blip r:embed="rId8"/>
          <a:stretch/>
        </p:blipFill>
        <p:spPr>
          <a:xfrm>
            <a:off x="4844880" y="2797200"/>
            <a:ext cx="361188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Life as a Child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868040"/>
            <a:ext cx="777096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Born on March 16,1940 in Boston, Massachusetts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Was a son of Doris &amp; Ralph Johnston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Was a loving brother to Betty Lou, Mary, Richard and Helen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He began working on a farm, and helping his mother cook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is is how his love for food made him want to become a chief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Norwich State Hospital 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506520" y="5843520"/>
            <a:ext cx="71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              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Where he worked as head chef along side of his best friend Nelson Provost </a:t>
            </a: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96" name="Picture 4" descr="C:\Users\hsjohnston\Downloads\salmon.jpg"/>
          <p:cNvPicPr/>
          <p:nvPr/>
        </p:nvPicPr>
        <p:blipFill>
          <a:blip r:embed="rId1"/>
          <a:stretch/>
        </p:blipFill>
        <p:spPr>
          <a:xfrm>
            <a:off x="2268360" y="1893960"/>
            <a:ext cx="45356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My favorite Meal by Poppy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98" name="Picture 8" descr="C:\Users\hsjohnston\Downloads\thumb_COLOURBOX1737533.jpg"/>
          <p:cNvPicPr/>
          <p:nvPr/>
        </p:nvPicPr>
        <p:blipFill>
          <a:blip r:embed="rId1"/>
          <a:stretch/>
        </p:blipFill>
        <p:spPr>
          <a:xfrm>
            <a:off x="685800" y="1479600"/>
            <a:ext cx="2468520" cy="2368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C:\Users\hsjohnston\Downloads\143-meatballs.JPG"/>
          <p:cNvPicPr/>
          <p:nvPr/>
        </p:nvPicPr>
        <p:blipFill>
          <a:blip r:embed="rId2"/>
          <a:stretch/>
        </p:blipFill>
        <p:spPr>
          <a:xfrm>
            <a:off x="5346720" y="1871640"/>
            <a:ext cx="2630520" cy="1976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C:\Users\hsjohnston\Downloads\sauce.jpg"/>
          <p:cNvPicPr/>
          <p:nvPr/>
        </p:nvPicPr>
        <p:blipFill>
          <a:blip r:embed="rId3"/>
          <a:stretch/>
        </p:blipFill>
        <p:spPr>
          <a:xfrm>
            <a:off x="3154320" y="42814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Youzer- Bowzer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868400"/>
            <a:ext cx="7770960" cy="42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He made up his own words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is word meant anything from thank you to yes I am done listening to you and I'm cutting you off.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He was also loved his western movies with John Wayne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103" name="Picture 2" descr="C:\Users\hsjohnston\Downloads\languages.jpg"/>
          <p:cNvPicPr/>
          <p:nvPr/>
        </p:nvPicPr>
        <p:blipFill>
          <a:blip r:embed="rId4"/>
          <a:stretch/>
        </p:blipFill>
        <p:spPr>
          <a:xfrm>
            <a:off x="6143760" y="4165560"/>
            <a:ext cx="25336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John Wayne 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105" name="Picture 2" descr="C:\Users\hsjohnston\Downloads\john-wayne.jpg"/>
          <p:cNvPicPr/>
          <p:nvPr/>
        </p:nvPicPr>
        <p:blipFill>
          <a:blip r:embed="rId1"/>
          <a:stretch/>
        </p:blipFill>
        <p:spPr>
          <a:xfrm>
            <a:off x="1011240" y="1800360"/>
            <a:ext cx="2962440" cy="4286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:\Users\hsjohnston\Downloads\24367_john-wayne-triple.jpg"/>
          <p:cNvPicPr/>
          <p:nvPr/>
        </p:nvPicPr>
        <p:blipFill>
          <a:blip r:embed="rId2"/>
          <a:stretch/>
        </p:blipFill>
        <p:spPr>
          <a:xfrm>
            <a:off x="4844880" y="2682720"/>
            <a:ext cx="36118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Things He Has Taught Me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108" name="Picture 2" descr="C:\Users\hsjohnston\Downloads\tie a shoe.jpg"/>
          <p:cNvPicPr/>
          <p:nvPr/>
        </p:nvPicPr>
        <p:blipFill>
          <a:blip r:embed="rId1"/>
          <a:stretch/>
        </p:blipFill>
        <p:spPr>
          <a:xfrm>
            <a:off x="685800" y="3800520"/>
            <a:ext cx="3611520" cy="2708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C:\Users\hsjohnston\Downloads\01.jpg"/>
          <p:cNvPicPr/>
          <p:nvPr/>
        </p:nvPicPr>
        <p:blipFill>
          <a:blip r:embed="rId2"/>
          <a:stretch/>
        </p:blipFill>
        <p:spPr>
          <a:xfrm>
            <a:off x="4935600" y="222876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C:\Users\hsjohnston\Downloads\IMG_0050.JPG"/>
          <p:cNvPicPr/>
          <p:nvPr/>
        </p:nvPicPr>
        <p:blipFill>
          <a:blip r:embed="rId3"/>
          <a:stretch/>
        </p:blipFill>
        <p:spPr>
          <a:xfrm>
            <a:off x="996840" y="1332000"/>
            <a:ext cx="286236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Conclusion 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868040"/>
            <a:ext cx="777096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You have been a role model to so many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I wanted to say “Thank You” for everything that you have done for me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He has not only been my grandfather, but a father figure for me, he is one of the best chef’s around Norwich, and should be remembered for all his accomplishments not for his death.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May you rest in peace and one day we will all be reunited in the afterlife.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7T16:22:32Z</dcterms:created>
  <dc:creator>Kayla Johnson</dc:creator>
  <dc:description/>
  <dc:language>en-US</dc:language>
  <cp:lastModifiedBy>hsjohnston</cp:lastModifiedBy>
  <dcterms:modified xsi:type="dcterms:W3CDTF">2012-06-08T10:39:03Z</dcterms:modified>
  <cp:revision>6</cp:revision>
  <dc:subject/>
  <dc:title>Whitney Houston</dc:title>
</cp:coreProperties>
</file>