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32E-333A-44EA-991F-AB7F6970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380-525A-4278-88FF-26CCA85E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800-6405-4EE0-A298-5E84A4AF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B26-30B7-4023-8BAB-40329D8F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FE33-7656-4AF8-8000-536B7931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FE82-6B66-4C8F-A8CE-8CB33B13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1851-985A-4B41-A524-69A23701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0D28-9E08-44E9-92B5-27C08411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05A4-282C-4C83-A81C-A4051EE7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060B-7269-4B64-90C6-D06BA666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2E14-59E7-4096-A8D8-3DC01549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51A-9D5A-445D-881A-4D2DFB8A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AF53-7534-4891-A4D8-EA5784E8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FD46-69E4-4473-B4D7-1AA8CD74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E759-A47A-449F-8B21-D2C17BDA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D0F4-4273-4FA1-A2A7-BE344A2E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82CC-BA56-4597-AE4B-CE463194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936-123B-41ED-9B0A-6E4F9D90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9ED-C221-4BFF-9E28-441F9C7B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805-A6B3-44B9-ADC7-22A75B14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6DDA-F5FE-48E6-9E09-AACCA287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769E-3CAA-428C-8BDB-56620B08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8E23-4046-4AD9-BC4A-09BA7CEC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571-9781-42E0-B40E-48743F23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8AAE-BAD1-4706-A16E-CE1F497198A9}" type="slidenum"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78588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93704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122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4699-0F81-40D4-9985-345113EE7E78}" type="slidenum">
              <a:rPr b="0" lang="en-US" sz="12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Ralph Johnston Jr.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506920" y="640548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By: Samantha Nichols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217600" y="1517760"/>
            <a:ext cx="468324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Who was Ralph Johnston?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88" name="Picture 8" descr="C:\Users\hsjohnston\Downloads\grandfather_with_grandson.jpg"/>
          <p:cNvPicPr/>
          <p:nvPr/>
        </p:nvPicPr>
        <p:blipFill>
          <a:blip r:embed="rId1"/>
          <a:stretch/>
        </p:blipFill>
        <p:spPr>
          <a:xfrm>
            <a:off x="1590840" y="1581120"/>
            <a:ext cx="2492280" cy="1636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5800" y="1760040"/>
            <a:ext cx="36115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0" name="Picture 9" descr="C:\Users\hsjohnston\Downloads\Father-son.jpg"/>
          <p:cNvPicPr/>
          <p:nvPr/>
        </p:nvPicPr>
        <p:blipFill>
          <a:blip r:embed="rId7"/>
          <a:stretch/>
        </p:blipFill>
        <p:spPr>
          <a:xfrm>
            <a:off x="1406520" y="3413160"/>
            <a:ext cx="2676600" cy="2712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Users\hsjohnston\Downloads\Navy-Seal.jpg"/>
          <p:cNvPicPr/>
          <p:nvPr/>
        </p:nvPicPr>
        <p:blipFill>
          <a:blip r:embed="rId8"/>
          <a:stretch/>
        </p:blipFill>
        <p:spPr>
          <a:xfrm>
            <a:off x="4844880" y="2797200"/>
            <a:ext cx="36118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Life as a Child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Born on March 16,1940 in Boston, Massachusetts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Was a son of Doris &amp; Ralph Johnston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Was a loving brother to Betty Lou, Mary, Richard and Helen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began working on a farm, and helping his mother cook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s is how his love for food made him want to become a chief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Norwich State Hospital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06520" y="5843520"/>
            <a:ext cx="71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Where he worked as head chef along side of his best friend Nelson Provost 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6" name="Picture 4" descr="C:\Users\hsjohnston\Downloads\salmon.jpg"/>
          <p:cNvPicPr/>
          <p:nvPr/>
        </p:nvPicPr>
        <p:blipFill>
          <a:blip r:embed="rId1"/>
          <a:stretch/>
        </p:blipFill>
        <p:spPr>
          <a:xfrm>
            <a:off x="2268360" y="1893960"/>
            <a:ext cx="4535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My favorite Meal by Poppy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98" name="Picture 8" descr="C:\Users\hsjohnston\Downloads\thumb_COLOURBOX1737533.jpg"/>
          <p:cNvPicPr/>
          <p:nvPr/>
        </p:nvPicPr>
        <p:blipFill>
          <a:blip r:embed="rId1"/>
          <a:stretch/>
        </p:blipFill>
        <p:spPr>
          <a:xfrm>
            <a:off x="685800" y="1479600"/>
            <a:ext cx="2468520" cy="2368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:\Users\hsjohnston\Downloads\143-meatballs.JPG"/>
          <p:cNvPicPr/>
          <p:nvPr/>
        </p:nvPicPr>
        <p:blipFill>
          <a:blip r:embed="rId2"/>
          <a:stretch/>
        </p:blipFill>
        <p:spPr>
          <a:xfrm>
            <a:off x="5346720" y="1871640"/>
            <a:ext cx="2630520" cy="1976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:\Users\hsjohnston\Downloads\sauce.jpg"/>
          <p:cNvPicPr/>
          <p:nvPr/>
        </p:nvPicPr>
        <p:blipFill>
          <a:blip r:embed="rId3"/>
          <a:stretch/>
        </p:blipFill>
        <p:spPr>
          <a:xfrm>
            <a:off x="3154320" y="4281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Youzer- Bowzer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868400"/>
            <a:ext cx="777096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made up his own words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s word meant anything from thank you to yes I am done listening to you and I'm cutting you off.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was also loved his western movies with John Wayne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3" name="Picture 2" descr="C:\Users\hsjohnston\Downloads\languages.jpg"/>
          <p:cNvPicPr/>
          <p:nvPr/>
        </p:nvPicPr>
        <p:blipFill>
          <a:blip r:embed="rId4"/>
          <a:stretch/>
        </p:blipFill>
        <p:spPr>
          <a:xfrm>
            <a:off x="6143760" y="4165560"/>
            <a:ext cx="25336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John Wayne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5" name="Picture 2" descr="C:\Users\hsjohnston\Downloads\john-wayne.jpg"/>
          <p:cNvPicPr/>
          <p:nvPr/>
        </p:nvPicPr>
        <p:blipFill>
          <a:blip r:embed="rId1"/>
          <a:stretch/>
        </p:blipFill>
        <p:spPr>
          <a:xfrm>
            <a:off x="1011240" y="1800360"/>
            <a:ext cx="2962440" cy="4286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hsjohnston\Downloads\24367_john-wayne-triple.jpg"/>
          <p:cNvPicPr/>
          <p:nvPr/>
        </p:nvPicPr>
        <p:blipFill>
          <a:blip r:embed="rId2"/>
          <a:stretch/>
        </p:blipFill>
        <p:spPr>
          <a:xfrm>
            <a:off x="4844880" y="2682720"/>
            <a:ext cx="3611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Things He Has Taught Me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108" name="Picture 2" descr="C:\Users\hsjohnston\Downloads\tie a shoe.jpg"/>
          <p:cNvPicPr/>
          <p:nvPr/>
        </p:nvPicPr>
        <p:blipFill>
          <a:blip r:embed="rId1"/>
          <a:stretch/>
        </p:blipFill>
        <p:spPr>
          <a:xfrm>
            <a:off x="685800" y="3800520"/>
            <a:ext cx="3611520" cy="2708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hsjohnston\Downloads\01.jpg"/>
          <p:cNvPicPr/>
          <p:nvPr/>
        </p:nvPicPr>
        <p:blipFill>
          <a:blip r:embed="rId2"/>
          <a:stretch/>
        </p:blipFill>
        <p:spPr>
          <a:xfrm>
            <a:off x="4935600" y="22287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Users\hsjohnston\Downloads\IMG_0050.JPG"/>
          <p:cNvPicPr/>
          <p:nvPr/>
        </p:nvPicPr>
        <p:blipFill>
          <a:blip r:embed="rId3"/>
          <a:stretch/>
        </p:blipFill>
        <p:spPr>
          <a:xfrm>
            <a:off x="996840" y="1332000"/>
            <a:ext cx="28623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onclusion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You have been a role model to so many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I wanted to say “Thank You” for everything that you have done for me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He has not only been my grandfather, but a father figure for me, he is one of the best chef’s around Norwich, and should be remembered for all his accomplishments not for his death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May you rest in peace and one day we will all be reunited in the afterlife.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6:22:32Z</dcterms:created>
  <dc:creator>Kayla Johnson</dc:creator>
  <dc:description/>
  <dc:language>en-US</dc:language>
  <cp:lastModifiedBy>hsjohnston</cp:lastModifiedBy>
  <dcterms:modified xsi:type="dcterms:W3CDTF">2012-06-08T10:39:03Z</dcterms:modified>
  <cp:revision>6</cp:revision>
  <dc:subject/>
  <dc:title>Whitney Houston</dc:title>
</cp:coreProperties>
</file>